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217-F2E3-4C27-8CE6-C59B8A54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42C-3A02-4A98-9243-A014934E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258-C3C0-4198-BFF3-9C6D3048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A86-98EA-435C-89EC-3F485CA0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5175-E526-4237-A07D-40487B09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28A7-0303-46BD-B32D-9A302DB5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0E2-A850-4EC8-986C-D844033A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A273-C103-4068-93AE-212DCB03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B8F1-5112-4C4C-9B86-D44DAC97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A934-9BD7-43AC-B9DF-02FFEDA2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E612-8DD1-46DE-9D86-B99FE792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61C-2535-457A-8C29-96B49C65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DC14-618D-4CA6-B334-DC023026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D525-620A-4BD4-82D7-7EBB32E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D7B0-B3E7-48A9-9928-C6FC2E39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E410-020E-467F-86B1-F5BD1D86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00C2-BAC7-4862-A6FA-E2B79846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CF0E-88A8-4068-86E0-816E34D8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5EF7-9751-457F-ACF9-F909DFF6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6764-E82A-43F4-BF12-90FEBB57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F5A9-E156-4AE0-80C9-412C7EDE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DA9A-BDE7-41C6-BF8D-FB39EDB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284-112E-49E9-B662-94E55172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198D-DC4A-431B-BE48-C2A3B505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AC6A-4A5C-4FFA-A87B-F49900D1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72DD-CEFA-4E8E-9FD5-2A99B7B4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7C2B-D0E9-4658-9010-A0E2795D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1C29-236D-4DBA-B23E-7FEC7391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1919E-E0CB-4219-9817-9A42D88D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A5AE-8543-4306-9364-ED796DA4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FB25-1B88-4091-9A0F-59F9E527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55C4C-C805-48EA-8974-2CDD169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96221-5249-4075-8239-331449D7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C66-A903-4B0F-86DE-546CA191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6FD78-2C78-46AC-85B3-068BBAFE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DDA52-1324-498A-A804-ED0E0AB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3F4D-0D68-49BD-9230-949E323A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2676-DB38-43A4-AD3D-DA01D084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6B725-8640-402D-B7DE-91A77BD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FFD4-0DDF-4084-98A5-F7792C6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4EB78-AF3C-4C26-BFAA-E67789B2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040A-EF3B-4FF7-A3C9-96E5A993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4148-BF91-4AA0-B283-2057ABEE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51F3-B6DA-4809-B6D1-2A33CCB0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0E6-95E2-411F-B617-B0E42A99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1766B-532C-4C5F-931D-307AAF94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563E5-DEB5-49F6-9E8C-A3E1C49F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7E14C-4A74-49F5-B5C2-FB72237C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771A4-4265-42D3-A372-4FF0C66D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CD1F-0F72-4C4E-B0E9-E0F7AE2A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652B9-D507-4EA4-86B8-8CA5428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AAC6-902B-4F3E-B163-84227D8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199B8-C79A-4AA5-9861-F7787F6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BF9E7-AD1B-4519-99C9-6EC35E6F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1FB9E-A8C3-429F-9E56-CE76CB72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568-8989-4E77-B8E1-E35AEA7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63747-D759-495D-B9E8-F8AC9D09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C646-9CDF-4694-A1D4-CDBDD3F4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3FD84-802C-4911-9F4C-93D34515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87D17-B2C5-47B7-805D-4FEB9739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3FFD7-15BC-470F-AE34-A7E3EB7A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BC9F-76CF-42C9-A0C3-EA3BE15B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3AF18-3120-4E82-80B0-C5990F6D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C5642-80A6-44AD-B640-AB695BCD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EF143-329E-4B70-AD00-D3A7E28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2AD3D-B3BD-4C22-9381-77426C0B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977-75DA-4D28-A25F-74472330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2C73A-987B-4844-9ED2-97757D9A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A95B5-D55D-486F-B7C0-64E479D1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A9F0C-1917-4067-A39D-723BA67B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D57-E86D-42E3-98AF-55EE9A7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2C8-7929-47BC-B928-7C37810F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6302-1104-425D-A9C0-F88A2DC4F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8415-BE95-45C5-8330-BFF759DFF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71B3-EF36-4C56-89C6-BAC129573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945B-8B4B-4A81-A2B5-96C8C3E08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97BD-B46B-4FE5-8710-EC82B9BC2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0EC7-C2A6-4C62-95B4-CB22DE3D7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Listen and repea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 txBox="1"/>
          <p:nvPr/>
        </p:nvSpPr>
        <p:spPr>
          <a:xfrm>
            <a:off x="4486680" y="559800"/>
            <a:ext cx="35989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 txBox="1"/>
          <p:nvPr/>
        </p:nvSpPr>
        <p:spPr>
          <a:xfrm>
            <a:off x="2372760" y="406800"/>
            <a:ext cx="4092840" cy="6634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118584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 txBox="1"/>
          <p:nvPr/>
        </p:nvSpPr>
        <p:spPr>
          <a:xfrm>
            <a:off x="3592080" y="488160"/>
            <a:ext cx="4092840" cy="7761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 txBox="1"/>
          <p:nvPr/>
        </p:nvSpPr>
        <p:spPr>
          <a:xfrm>
            <a:off x="2415240" y="631800"/>
            <a:ext cx="3246120" cy="565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 txBox="1"/>
          <p:nvPr/>
        </p:nvSpPr>
        <p:spPr>
          <a:xfrm>
            <a:off x="666000" y="788400"/>
            <a:ext cx="33163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2341800" y="936360"/>
            <a:ext cx="3316680" cy="564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371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yoll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w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b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419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371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133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895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657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181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4600" y="1294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4600" y="205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600" y="2818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4600" y="365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4600" y="4342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4600" y="5104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 txBox="1"/>
          <p:nvPr/>
        </p:nvSpPr>
        <p:spPr>
          <a:xfrm>
            <a:off x="541800" y="398880"/>
            <a:ext cx="2116800" cy="451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505320"/>
            <a:ext cx="2286000" cy="487080"/>
          </a:xfrm>
          <a:prstGeom prst="wedgeRoundRectCallout">
            <a:avLst>
              <a:gd name="adj1" fmla="val -40833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3434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1523880"/>
            <a:ext cx="7848360" cy="1067040"/>
          </a:xfrm>
          <a:prstGeom prst="wedgeRoundRectCallout">
            <a:avLst>
              <a:gd name="adj1" fmla="val -54208"/>
              <a:gd name="adj2" fmla="val 13854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52680"/>
            <a:ext cx="6095880" cy="1067040"/>
          </a:xfrm>
          <a:prstGeom prst="wedgeRoundRectCallout">
            <a:avLst>
              <a:gd name="adj1" fmla="val 60495"/>
              <a:gd name="adj2" fmla="val 122768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flipH="1" rot="16200000">
            <a:off x="3962160" y="1676160"/>
            <a:ext cx="1219320" cy="91440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24368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752480" y="3505320"/>
            <a:ext cx="5943600" cy="106668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es he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800600"/>
            <a:ext cx="5791320" cy="1066680"/>
          </a:xfrm>
          <a:prstGeom prst="wedgeRoundRectCallout">
            <a:avLst>
              <a:gd name="adj1" fmla="val 57703"/>
              <a:gd name="adj2" fmla="val 91370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’s h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3808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143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Model sentences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es he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e’s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327672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644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3276720" y="3581280"/>
            <a:ext cx="26733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6095880" y="3581280"/>
            <a:ext cx="274644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496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1752480" y="5029200"/>
            <a:ext cx="5791320" cy="1066680"/>
          </a:xfrm>
          <a:prstGeom prst="wedgeRoundRectCallout">
            <a:avLst>
              <a:gd name="adj1" fmla="val 55620"/>
              <a:gd name="adj2" fmla="val 76041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548640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3619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8380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81280"/>
            <a:ext cx="5943600" cy="106704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nsw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4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3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2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1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293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600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3880" y="464832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6372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6498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63868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1143000" y="2286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sk and answ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in the halv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543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25432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8600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22971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3842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609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49264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019920" y="3619440"/>
            <a:ext cx="2517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276720" y="3600360"/>
            <a:ext cx="24908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609480" y="3629160"/>
            <a:ext cx="2492640" cy="29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609480" y="38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324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220968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736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8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340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53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      Nhan      Ba     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20968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29718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09680" y="121932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8098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47242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. A 5 (P.106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4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75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722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0.25417 0.35507 E">
                                      <p:cBhvr>
                                        <p:cTn id="39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17916 0.35507 E">
                                      <p:cBhvr>
                                        <p:cTn id="403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0541E-006 L 0.17083 0.73232 E">
                                      <p:cBhvr>
                                        <p:cTn id="40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52083 0.73232 E">
                                      <p:cBhvr>
                                        <p:cTn id="41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62120" y="12952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04812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133720"/>
            <a:ext cx="6248520" cy="1904760"/>
          </a:xfrm>
          <a:prstGeom prst="horizontalScroll">
            <a:avLst>
              <a:gd name="adj" fmla="val 12500"/>
            </a:avLst>
          </a:prstGeom>
          <a:solidFill>
            <a:srgbClr val="ffe575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666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I’m……..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34290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8862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2438280" y="44197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8120" y="441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re you ..................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410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/ No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0"/>
          <a:stretch/>
        </p:blipFill>
        <p:spPr>
          <a:xfrm>
            <a:off x="990720" y="44197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019920" y="609480"/>
            <a:ext cx="270972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295280" y="9907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. Homewor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57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A1 (P. 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32004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A5 (P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3809880"/>
            <a:ext cx="640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Example: A1 (P. 1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4495680"/>
            <a:ext cx="60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a) He is hung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3:59:59Z</dcterms:created>
  <dc:creator/>
  <dc:description/>
  <dc:language>en-US</dc:language>
  <cp:lastModifiedBy>Quy Khach Hang</cp:lastModifiedBy>
  <dcterms:modified xsi:type="dcterms:W3CDTF">2009-08-23T14:45:40Z</dcterms:modified>
  <cp:revision>23</cp:revision>
  <dc:subject/>
  <dc:title>English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