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A34-80D1-4AF0-B6CA-F23F5881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036-9AD4-40BB-9672-0B6EB6CF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9E8-DDA9-4B90-953A-73D5273F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CAF-0AC9-4238-B26B-CBA89D33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438B-9D8D-40D6-BFF2-15658930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BF02-302D-43F2-BD28-58D4A7E2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F0F7-4078-4766-BA51-CC74095C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57F1-7E0A-4D17-84A0-4CDAF381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CE96-D6BF-4E6C-AB23-6650A42A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EF0-C7EA-4A42-9911-A9041A26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C5B1-D466-42E0-9122-2D9106F9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035-76D7-4703-9469-2706D26F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1597-C78C-4B37-8D13-104C77AA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996A-A851-48EE-ADA8-65F0964F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97AF-E0E0-48D3-991D-FC782273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B2BB-6093-4C80-9CCC-C6CFC0E8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78C1-D393-458C-BC96-11A38595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87E4-23D0-43CF-A385-40C5B21B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0D3F-61B3-4725-A28C-A4158A70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2F49-450F-4790-B021-A0C97FE7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9206-7724-49D8-B5BE-0D2FF860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02D7-9756-410D-896E-E71C9086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ACD-1F39-40D4-AC30-9F3B8FEC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F2DA-D3D6-47B8-AE81-6D0B18BC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B2A8-D8C7-4E88-849F-71DE104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6EF3-B6EA-49A5-85EF-84750C99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113E-CC0C-45B4-9BBC-314321FA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CC76-DF53-402E-B2ED-93359344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F343A-39AE-4453-907C-20631193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4FC5-CEAB-448F-8407-67A5E781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7D17-FEED-435E-8ADF-0F50707A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5B43-9D03-48F7-A901-53543BDB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3577-8697-4D8C-A154-5035FDF2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657-5460-4F78-8014-DAE77AD5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3812-A24F-483A-9106-70D5C343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E465-53D5-4128-A251-411CA56D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F68C-DB51-4608-85A7-29AA581D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7845C-23A5-4D34-859F-CC6CD4E5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50E2-D739-4A35-B9A1-A26751D3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F5E6-CBF8-4D60-95F5-C8345998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27CF-5505-473D-939D-5E5F5A40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E122B-CE43-436C-9027-12849955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3057-3222-48CA-8696-D823ECC2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4BCE-DFFE-4B21-8357-F84FA949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7D5-BF3E-4849-B9B0-F98A3FD0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E48C7-F82C-4029-9563-2199A2CD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56F8-424F-48D7-B57A-32D3A682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E8CE-EA3C-4094-94C1-ABFBBFA9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F3625-85ED-40B0-86E0-5831997D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78669-D0CB-4E71-9073-18118889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2161-89FA-4D3C-98A0-E09B34B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E4AE7-8FB8-4404-A990-0A9878F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AF83-7AF4-41E6-A7A4-3A033F76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CAF4-BEDA-4664-84AD-E986D9FA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AD68-6BAD-4004-89DE-2472F266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221-D5CA-4134-953A-E7538645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D377-BFAC-462F-B697-BBC2B390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80E3-701C-4BC4-BF2F-66371A9C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1D4E0-6E7D-4A5A-AC2E-FE78F5B0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EFB2B-FF9C-4FC9-A32B-30A1B905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F53E8-713D-4E37-A2B5-C1D23E59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615E2-D8A4-4968-9874-C58AF19D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DA2F0-5606-4705-BBED-E22D6492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22424-EB38-4369-8513-B72D223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48E40-32DB-492F-A806-093540C8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8DED-5C18-428B-8F1E-071CE161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52C-FE77-4A71-8B64-F8CEEBB0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8380-9030-4314-8B70-8BA09EA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C2F9A-8A59-4009-87C9-4A646DFD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E2067-8964-4762-BEE6-ECDF8DC6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4CA-B9BA-43F6-BAF7-37AE92E5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AA6-04F6-4E48-A628-AF6718C1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7160-4E7B-4CB0-BF6A-0980A23B5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0062-074B-4E90-A0B5-5CE552697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0C8D-FECB-41F5-BBAC-EA49F144E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96B2-C442-4C2E-9FC1-CC14BAF39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69C5-D3DF-4E8C-A9E1-DC5702F20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43CE-8192-4D73-95B1-C05AC37A2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Listen and repea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 txBox="1"/>
          <p:nvPr/>
        </p:nvSpPr>
        <p:spPr>
          <a:xfrm>
            <a:off x="4486680" y="559800"/>
            <a:ext cx="35989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 txBox="1"/>
          <p:nvPr/>
        </p:nvSpPr>
        <p:spPr>
          <a:xfrm>
            <a:off x="2372760" y="406800"/>
            <a:ext cx="4092840" cy="6634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118584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 txBox="1"/>
          <p:nvPr/>
        </p:nvSpPr>
        <p:spPr>
          <a:xfrm>
            <a:off x="3592080" y="488160"/>
            <a:ext cx="4092840" cy="7761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 txBox="1"/>
          <p:nvPr/>
        </p:nvSpPr>
        <p:spPr>
          <a:xfrm>
            <a:off x="2415240" y="631800"/>
            <a:ext cx="3246120" cy="565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 txBox="1"/>
          <p:nvPr/>
        </p:nvSpPr>
        <p:spPr>
          <a:xfrm>
            <a:off x="666000" y="788400"/>
            <a:ext cx="33163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2341800" y="936360"/>
            <a:ext cx="3316680" cy="564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371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yoll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w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b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419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371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133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895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657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181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4600" y="1294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4600" y="205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600" y="2818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4600" y="365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4600" y="4342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4600" y="5104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 txBox="1"/>
          <p:nvPr/>
        </p:nvSpPr>
        <p:spPr>
          <a:xfrm>
            <a:off x="541800" y="398880"/>
            <a:ext cx="2116800" cy="451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505320"/>
            <a:ext cx="2286000" cy="487080"/>
          </a:xfrm>
          <a:prstGeom prst="wedgeRoundRectCallout">
            <a:avLst>
              <a:gd name="adj1" fmla="val -40833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3434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1523880"/>
            <a:ext cx="7848360" cy="1067040"/>
          </a:xfrm>
          <a:prstGeom prst="wedgeRoundRectCallout">
            <a:avLst>
              <a:gd name="adj1" fmla="val -54208"/>
              <a:gd name="adj2" fmla="val 13854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52680"/>
            <a:ext cx="6095880" cy="1067040"/>
          </a:xfrm>
          <a:prstGeom prst="wedgeRoundRectCallout">
            <a:avLst>
              <a:gd name="adj1" fmla="val 60495"/>
              <a:gd name="adj2" fmla="val 122768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flipH="1" rot="16200000">
            <a:off x="3962160" y="1676160"/>
            <a:ext cx="1219320" cy="91440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24368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752480" y="3505320"/>
            <a:ext cx="5943600" cy="106668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es he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800600"/>
            <a:ext cx="5791320" cy="1066680"/>
          </a:xfrm>
          <a:prstGeom prst="wedgeRoundRectCallout">
            <a:avLst>
              <a:gd name="adj1" fmla="val 57703"/>
              <a:gd name="adj2" fmla="val 91370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’s h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3808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143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Model sentences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es he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e’s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327672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644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3276720" y="3581280"/>
            <a:ext cx="26733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6095880" y="3581280"/>
            <a:ext cx="274644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496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1752480" y="5029200"/>
            <a:ext cx="5791320" cy="1066680"/>
          </a:xfrm>
          <a:prstGeom prst="wedgeRoundRectCallout">
            <a:avLst>
              <a:gd name="adj1" fmla="val 55620"/>
              <a:gd name="adj2" fmla="val 76041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548640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3619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8380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81280"/>
            <a:ext cx="5943600" cy="106704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nsw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4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3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2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1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293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600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3880" y="464832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6372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6498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63868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1143000" y="2286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sk and answ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in the halv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543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25432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8600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22971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3842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609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49264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019920" y="3619440"/>
            <a:ext cx="2517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276720" y="3600360"/>
            <a:ext cx="24908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609480" y="3629160"/>
            <a:ext cx="2492640" cy="29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609480" y="38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324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220968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736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8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340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53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      Nhan      Ba     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20968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29718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09680" y="121932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8098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47242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. A 5 (P.106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4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75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722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0.25417 0.35507 E">
                                      <p:cBhvr>
                                        <p:cTn id="39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17916 0.35507 E">
                                      <p:cBhvr>
                                        <p:cTn id="403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0541E-006 L 0.17083 0.73232 E">
                                      <p:cBhvr>
                                        <p:cTn id="40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52083 0.73232 E">
                                      <p:cBhvr>
                                        <p:cTn id="41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62120" y="12952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04812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133720"/>
            <a:ext cx="6248520" cy="1904760"/>
          </a:xfrm>
          <a:prstGeom prst="horizontalScroll">
            <a:avLst>
              <a:gd name="adj" fmla="val 12500"/>
            </a:avLst>
          </a:prstGeom>
          <a:solidFill>
            <a:srgbClr val="ffe575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666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I’m……..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34290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8862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2438280" y="44197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8120" y="441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re you ..................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410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/ No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0"/>
          <a:stretch/>
        </p:blipFill>
        <p:spPr>
          <a:xfrm>
            <a:off x="990720" y="44197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019920" y="609480"/>
            <a:ext cx="270972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295280" y="9907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. Homewor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57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A1 (P. 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32004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A5 (P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3809880"/>
            <a:ext cx="640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Example: A1 (P. 1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4495680"/>
            <a:ext cx="60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a) He is hung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3:59:59Z</dcterms:created>
  <dc:creator/>
  <dc:description/>
  <dc:language>en-US</dc:language>
  <cp:lastModifiedBy>Quy Khach Hang</cp:lastModifiedBy>
  <dcterms:modified xsi:type="dcterms:W3CDTF">2009-08-23T14:45:40Z</dcterms:modified>
  <cp:revision>23</cp:revision>
  <dc:subject/>
  <dc:title>English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