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0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2.png" ContentType="image/png"/>
  <Override PartName="/ppt/media/image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EEC-9230-47BB-B094-846DD63C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C1D-569A-4C42-BC5C-5AE081DA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E2B-3F79-4851-969F-58828936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924-7115-43F0-811D-03FAB4EE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0CAB-AAE9-4D7A-A752-1EABDD50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A540-425B-4B14-BBC4-7BC46524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4FFC-C532-468D-B31E-CE4C1136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07F1-DD97-4CFF-A2AB-0849E20B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7F5F-566A-47F1-BB81-50CDFF44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A585-57A5-4EBD-8B05-ADDC5A81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98D7-4EBD-4D52-9436-56048B73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BDD-BCB2-478C-87B0-4228BE20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F04D-F994-4E74-8F68-B8340154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06D5-B91F-43D4-A222-23611723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479C-A1DE-4712-9FA6-B2E3D208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468F-4967-41C9-82EC-00CDAF96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1F0E-C71B-41A1-B788-D531BC46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02D52-647F-4462-B3C1-2467CDA1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83A4E-E918-492C-84A4-5DE84C7C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4D36-9818-4283-8BAD-DF80E581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953A0-BD71-4953-B1B6-0C48B1AE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446F1-C570-46D3-840D-60F9B8A0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451-37B2-4CA7-8E3D-8F082E54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AA3C9-2BBB-41A0-9830-9C8EBECE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8687-EC35-4322-8F03-68B20FAE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DB866-690E-481D-934B-45B17A50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14353-6E71-48D9-91B8-871266FF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FE7A6-64C6-43FE-9DC2-FEA92840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B22B4-9D12-4951-9D08-BB41E510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8B349-5231-4ADB-9F3D-7318923A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BAFF8-0E2B-40E0-9CBB-060EB15A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1FEA3-7712-47EF-98F8-41FBE5EC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D3351-4166-4177-B0A5-4459E9D6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A29-8216-4A22-B047-5815CFCE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31DD6-CF51-4D8A-B5EE-4D60DD1A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17B96-9FEC-4589-9E35-2FCB5441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0ADF-2B26-412B-89C8-6E44EFD8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79AB9-8852-49D9-A10E-09A35944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4A44C-6004-40EF-B02A-5901AD2A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A4524-AE64-4CEE-9A38-5D817F47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92C89-3787-4F66-8D2A-3F6264E3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7A0ED-C44B-4B14-81A7-A7CDD3D7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E4000-B210-465C-A51B-8C416B0C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BD22D-1BF0-4267-A57C-8E4103B2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629-0B78-42EC-9F66-61F461AC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194B7-031F-480E-8711-E8F70B04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0757A-0733-4DE4-BAA4-6DE3294E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29B4A-BD03-4FB2-B343-ABC9F781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5F2BA-3D36-4893-94C2-5548E04A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6A0F5-A016-4463-AC41-FC15AD89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39AFF-B73F-4F86-8E58-72B17955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C2979-65F6-4D50-9EA5-774EF9B3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90F88-0208-4E43-8A05-C8FE792D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C60D1-A53F-45AC-A451-4EFA4730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EA8A9-0E05-445C-B66B-17B7EE94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5C5-235A-4EBC-B7D5-847AEE7D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6D2A3-E059-4E04-8736-F463AFF4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47D25-4F79-4D5D-9CFC-6C4ED731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C531F-7B90-4DA4-8E4B-3CBA5108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0133E-45DC-4F2A-830B-0199B19B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1F834-5DDF-4AE2-B458-F06281BB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4452E-9F36-4B6F-9771-9373C8CA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8A032-30C6-4D6B-BA8F-35D0D4F2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4BA8A-A36A-49CF-938B-CEF7579E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F29B8-9059-4C07-B3F4-C5DDD257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11063-8683-4BAE-AEED-215AC215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8D8-DC74-414F-B7DD-6D4B3D0B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8EB77-8200-48E2-8874-2320BEFA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BD3A2-3859-4AAB-8252-291B60D4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C3975-AA37-4F70-ADD0-F8A44AD7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3914-E607-41CD-9BAE-A8FD912C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FD3-FBD7-4819-8B16-AFCDA4AE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2981-4435-47E1-830F-BE3E5518F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84AC-AEC4-4C2A-8FB4-2DD4BC1ED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8A3F-3EFD-402C-964F-44A7F1156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B252-F39D-4230-A888-395253A22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2A05-3F2B-4C82-8879-A9696BDDB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AB4C-F716-4805-9CCF-D88142518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6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1148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Monotype Corsiva"/>
              </a:rPr>
              <a:t>Listen and repeat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52480" y="125892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"/>
          <p:cNvSpPr txBox="1"/>
          <p:nvPr/>
        </p:nvSpPr>
        <p:spPr>
          <a:xfrm>
            <a:off x="4486680" y="559800"/>
            <a:ext cx="35989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9" name=""/>
          <p:cNvSpPr txBox="1"/>
          <p:nvPr/>
        </p:nvSpPr>
        <p:spPr>
          <a:xfrm>
            <a:off x="2372760" y="406800"/>
            <a:ext cx="4092840" cy="66348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752480" y="118584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1" name=""/>
          <p:cNvSpPr txBox="1"/>
          <p:nvPr/>
        </p:nvSpPr>
        <p:spPr>
          <a:xfrm>
            <a:off x="3592080" y="488160"/>
            <a:ext cx="4092840" cy="77616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3" name=""/>
          <p:cNvSpPr txBox="1"/>
          <p:nvPr/>
        </p:nvSpPr>
        <p:spPr>
          <a:xfrm>
            <a:off x="2415240" y="631800"/>
            <a:ext cx="3246120" cy="5652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5" name=""/>
          <p:cNvSpPr txBox="1"/>
          <p:nvPr/>
        </p:nvSpPr>
        <p:spPr>
          <a:xfrm>
            <a:off x="666000" y="788400"/>
            <a:ext cx="33163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7" name=""/>
          <p:cNvSpPr txBox="1"/>
          <p:nvPr/>
        </p:nvSpPr>
        <p:spPr>
          <a:xfrm>
            <a:off x="2341800" y="936360"/>
            <a:ext cx="3316680" cy="5648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38280" y="1371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yoll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133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w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895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k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657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b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4419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5181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g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371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2133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2895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657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4419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5181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14600" y="12942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14600" y="2056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600" y="2818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4600" y="36565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4600" y="4342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4600" y="5104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380880" y="396252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3200400" y="396252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6019920" y="396252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"/>
          <p:cNvSpPr txBox="1"/>
          <p:nvPr/>
        </p:nvSpPr>
        <p:spPr>
          <a:xfrm>
            <a:off x="541800" y="398880"/>
            <a:ext cx="2116800" cy="4514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8128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3505320"/>
            <a:ext cx="2286000" cy="487080"/>
          </a:xfrm>
          <a:prstGeom prst="wedgeRoundRectCallout">
            <a:avLst>
              <a:gd name="adj1" fmla="val -40833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43434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62120" y="1523880"/>
            <a:ext cx="7848360" cy="1067040"/>
          </a:xfrm>
          <a:prstGeom prst="wedgeRoundRectCallout">
            <a:avLst>
              <a:gd name="adj1" fmla="val -54208"/>
              <a:gd name="adj2" fmla="val 13854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3352680"/>
            <a:ext cx="6095880" cy="1067040"/>
          </a:xfrm>
          <a:prstGeom prst="wedgeRoundRectCallout">
            <a:avLst>
              <a:gd name="adj1" fmla="val 60495"/>
              <a:gd name="adj2" fmla="val 122768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 flipH="1" rot="16200000">
            <a:off x="3962160" y="1676160"/>
            <a:ext cx="1219320" cy="914400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24368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"/>
          <p:cNvSpPr/>
          <p:nvPr/>
        </p:nvSpPr>
        <p:spPr>
          <a:xfrm>
            <a:off x="1752480" y="3505320"/>
            <a:ext cx="5943600" cy="106668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es he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4800600"/>
            <a:ext cx="5791320" cy="1066680"/>
          </a:xfrm>
          <a:prstGeom prst="wedgeRoundRectCallout">
            <a:avLst>
              <a:gd name="adj1" fmla="val 57703"/>
              <a:gd name="adj2" fmla="val 91370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’s h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90720" y="38088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2057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743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I’m hung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11430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Model sentences</a:t>
            </a:r>
            <a:r>
              <a:rPr b="0" i="1" lang="en-US" sz="48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0" y="34290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es he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0" y="4114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e’s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2590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96252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76720" y="3276720"/>
            <a:ext cx="1218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464832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264492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3276720" y="3581280"/>
            <a:ext cx="26733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6095880" y="3581280"/>
            <a:ext cx="274644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3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9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8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2209680" y="838080"/>
            <a:ext cx="449604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1" name=""/>
          <p:cNvSpPr/>
          <p:nvPr/>
        </p:nvSpPr>
        <p:spPr>
          <a:xfrm>
            <a:off x="1752480" y="5029200"/>
            <a:ext cx="5791320" cy="1066680"/>
          </a:xfrm>
          <a:prstGeom prst="wedgeRoundRectCallout">
            <a:avLst>
              <a:gd name="adj1" fmla="val 55620"/>
              <a:gd name="adj2" fmla="val 76041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33720" y="548640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1447920" y="609480"/>
            <a:ext cx="2361960" cy="23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4" name=""/>
          <p:cNvSpPr/>
          <p:nvPr/>
        </p:nvSpPr>
        <p:spPr>
          <a:xfrm>
            <a:off x="838080" y="2971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3581280"/>
            <a:ext cx="5943600" cy="106704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nswer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"/>
          <p:cNvSpPr/>
          <p:nvPr/>
        </p:nvSpPr>
        <p:spPr>
          <a:xfrm>
            <a:off x="0" y="2971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4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1148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3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2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1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293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28800" y="2209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4724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4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3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1600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13880" y="464832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6372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56498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371600" y="457200"/>
            <a:ext cx="563868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"/>
          <p:cNvSpPr/>
          <p:nvPr/>
        </p:nvSpPr>
        <p:spPr>
          <a:xfrm>
            <a:off x="1143000" y="228600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sk and answe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in the halve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1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25432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2254320" cy="22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248520" y="380880"/>
            <a:ext cx="228600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609480" y="3352680"/>
            <a:ext cx="229716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3429000" y="335268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6248520" y="3352680"/>
            <a:ext cx="238428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9" name=""/>
          <p:cNvSpPr/>
          <p:nvPr/>
        </p:nvSpPr>
        <p:spPr>
          <a:xfrm>
            <a:off x="609480" y="2590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2666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48520" y="2590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867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24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49264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60199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6019920" y="3619440"/>
            <a:ext cx="251748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3276720" y="3600360"/>
            <a:ext cx="249084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609480" y="3629160"/>
            <a:ext cx="2492640" cy="294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1" name=""/>
          <p:cNvSpPr/>
          <p:nvPr/>
        </p:nvSpPr>
        <p:spPr>
          <a:xfrm>
            <a:off x="609480" y="380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767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3657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324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8800" y="2209680"/>
              <a:ext cx="304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9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2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5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8736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8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8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1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340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4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6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47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9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0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1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2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53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      Nhan      Ba     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1371600" y="38052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220968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9480" y="29718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209680" y="1219320"/>
            <a:ext cx="556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565" name=""/>
          <p:cNvSpPr/>
          <p:nvPr/>
        </p:nvSpPr>
        <p:spPr>
          <a:xfrm>
            <a:off x="609480" y="38098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9480" y="47242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I. A 5 (P.106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8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69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1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2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3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4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75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04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1722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0.25417 0.35507 E">
                                      <p:cBhvr>
                                        <p:cTn id="398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17916 0.35507 E">
                                      <p:cBhvr>
                                        <p:cTn id="403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10541E-006 L 0.17083 0.73232 E">
                                      <p:cBhvr>
                                        <p:cTn id="40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52083 0.73232 E">
                                      <p:cBhvr>
                                        <p:cTn id="413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762120" y="1295280"/>
            <a:ext cx="739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048120"/>
            <a:ext cx="647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2133720"/>
            <a:ext cx="6248520" cy="1904760"/>
          </a:xfrm>
          <a:prstGeom prst="horizontalScroll">
            <a:avLst>
              <a:gd name="adj" fmla="val 12500"/>
            </a:avLst>
          </a:prstGeom>
          <a:solidFill>
            <a:srgbClr val="ffe575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676520" y="26668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I’m……..</a:t>
            </a: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43434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4876920" y="1143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5"/>
          <a:stretch/>
        </p:blipFill>
        <p:spPr>
          <a:xfrm>
            <a:off x="34290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38862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7"/>
          <a:stretch/>
        </p:blipFill>
        <p:spPr>
          <a:xfrm>
            <a:off x="2438280" y="441972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048120" y="4419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Are you ..................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54100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Ye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54100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/ No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8"/>
          <a:stretch/>
        </p:blipFill>
        <p:spPr>
          <a:xfrm>
            <a:off x="1447920" y="4419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9"/>
          <a:stretch/>
        </p:blipFill>
        <p:spPr>
          <a:xfrm>
            <a:off x="1981080" y="4419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0"/>
          <a:stretch/>
        </p:blipFill>
        <p:spPr>
          <a:xfrm>
            <a:off x="990720" y="441972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200400" y="60948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6019920" y="609480"/>
            <a:ext cx="270972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6019920" y="342900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295280" y="9907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V. Homework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45720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2880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) A1 (P. 1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32004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) A5 (P.1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00200" y="3809880"/>
            <a:ext cx="640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Example: A1 (P. 10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33720" y="4495680"/>
            <a:ext cx="609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a) He is hungr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3:59:59Z</dcterms:created>
  <dc:creator/>
  <dc:description/>
  <dc:language>en-US</dc:language>
  <cp:lastModifiedBy>Quy Khach Hang</cp:lastModifiedBy>
  <dcterms:modified xsi:type="dcterms:W3CDTF">2009-08-23T14:45:40Z</dcterms:modified>
  <cp:revision>23</cp:revision>
  <dc:subject/>
  <dc:title>English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