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0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2.png" ContentType="image/png"/>
  <Override PartName="/ppt/media/image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3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216-66FD-4F98-8C68-4CE2F469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2F6-344A-40B9-A053-86224858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C16-C2DD-4E5C-99E7-ED97C912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64E-CB02-41E9-84CB-1D5797F0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6F45-DB32-4E6D-8913-2CA2D0CA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4799-4A98-48E2-8E3F-DDCB6341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7AF3-05C4-413A-ACF4-29E9F66A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6208-929B-4A61-AE11-DAE49961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C157-FB71-4798-A218-944D1BF3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244E-AB2B-416D-82A0-7C3DAC97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1DB4-9410-4A6F-AAAF-C7BE8E45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EDB-9657-4C5E-9E44-CC70BCCB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5B6E-CBD6-4037-93B1-39A2D27E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AB62-069E-4058-8B74-57B1D9F3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4A42-302C-4ED4-923F-13149624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AD38-A354-4871-BF15-669C61FC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78EF-D657-425E-802C-548F85CF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1F060-8844-402F-A838-274DD547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344EB-CE37-4B71-9798-D1FE7ED0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213FB-F3E8-42E7-9CB4-98FAFBE8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E495F-EE99-4DBC-8D67-30D6979C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AA7A7-0FD9-43C9-A622-CDE21D0C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F75-D3BC-436A-808D-1C87A0D1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3418B-24D7-41C2-81B8-B4E007F6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DD8CD-A6BD-44E4-8DFB-B91C0E94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8F11B-5131-4C98-887E-F1E39676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ABC4-DC1F-4857-8BBC-05115B6F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7A998-8E9D-4D17-92CB-79EB0B0D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C11A8-7BB0-43E0-8C27-90F61581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70E55-22B2-4D62-828C-1FF80478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8690A-36A8-44B1-A8F3-23AAEB14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20AD9-F3D3-4D3F-9B37-3D27FFA6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064A9-2D95-4D1E-9366-D370943E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C1C-A262-44DF-AC9E-36757777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43A6C-5EA2-430C-B885-77DA3090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AA735-E702-45DE-AD06-ADB0BF3A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F3A23-084B-4840-B29D-2A41F39B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86C9E-4206-4D4B-9CE6-0A4F6E95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161AD-BB98-4804-AC4F-F7651A46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16D55-D7B7-4FA7-8E89-C71C5A76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A14CA-BC99-454B-A008-CC315FB1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1C428-0235-4ADF-838B-86344057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04BEE-9079-4681-957E-90C9CD48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54EA0-039D-4B86-9695-65292F56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54CA-8F56-409A-97A4-A6C3A127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3C211-0DE5-40C8-9E25-1F1E33FC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B61D2-24B5-4425-BE97-AC53952B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DA83E-68E3-41CB-B5F0-2A84FBBB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09A26-3675-46E1-8EE0-81ECB8FE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0865F-C75F-41EF-AF55-3030F84B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EAE52-0EBA-41C7-A383-8A4124EA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ACBD4-616B-4C7B-A992-B30E255B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99C74-E252-4475-88D4-D9C45449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44A18-60C7-4E1A-8542-02397573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3B662-FBC1-456B-AD7D-C0CBBF16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D6B-20EE-42DA-8755-9C08580C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7370E-5370-45ED-AE45-D220D4FD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1DF71-94C4-4007-B5B7-F562F993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2BD18-A5E9-4C99-9AB5-FC539F4E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591A7-DF8E-4F75-B24A-C2DBC2DB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77A01-DC60-470F-9D66-3E3BC8D5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F1379-4372-49A8-83B9-85502404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8A051-42BF-4DEA-BE96-FCAC7A04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6199D-816F-4507-8ADA-42FDE263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F76E9-4B8B-44BE-9253-5B5B7EDF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8A3E0-6777-4D24-A3DF-A29E9186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9247-D266-4FDE-8A7D-64E07A80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816A4-C9B4-4D28-B451-19510BB1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CA4D3-08A1-4519-AF84-1CF26B94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10CA5-98DB-4205-98AD-A9FA070D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5A2-8E11-4BB1-AC92-029890F0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1E0-1BD3-4CE1-AF6F-F1B9C983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56A6-AFCC-4045-9FC3-01A774CAD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F4FE-2E67-40ED-B1B5-7418CE02D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0EB5-E06C-4065-A15B-5770EC339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A446-8641-4CC3-8970-A0F762ED3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2FE8-B7B4-4F92-AF31-28887508C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36FE-6B77-4635-AD4E-A6F2118E7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6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3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1148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2768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41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10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Monotype Corsiva"/>
              </a:rPr>
              <a:t>Listen and repeat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5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752480" y="1258920"/>
            <a:ext cx="5639040" cy="559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7" name=""/>
          <p:cNvSpPr txBox="1"/>
          <p:nvPr/>
        </p:nvSpPr>
        <p:spPr>
          <a:xfrm>
            <a:off x="4486680" y="559800"/>
            <a:ext cx="3598920" cy="6631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hung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63868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9" name=""/>
          <p:cNvSpPr txBox="1"/>
          <p:nvPr/>
        </p:nvSpPr>
        <p:spPr>
          <a:xfrm>
            <a:off x="2372760" y="406800"/>
            <a:ext cx="4092840" cy="66348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thirs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752480" y="1185840"/>
            <a:ext cx="5791320" cy="567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1" name=""/>
          <p:cNvSpPr txBox="1"/>
          <p:nvPr/>
        </p:nvSpPr>
        <p:spPr>
          <a:xfrm>
            <a:off x="3592080" y="488160"/>
            <a:ext cx="4092840" cy="77616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’re fu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3" name=""/>
          <p:cNvSpPr txBox="1"/>
          <p:nvPr/>
        </p:nvSpPr>
        <p:spPr>
          <a:xfrm>
            <a:off x="2415240" y="631800"/>
            <a:ext cx="3246120" cy="5652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’m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2768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5" name=""/>
          <p:cNvSpPr txBox="1"/>
          <p:nvPr/>
        </p:nvSpPr>
        <p:spPr>
          <a:xfrm>
            <a:off x="666000" y="788400"/>
            <a:ext cx="3316320" cy="6631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c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41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7" name=""/>
          <p:cNvSpPr txBox="1"/>
          <p:nvPr/>
        </p:nvSpPr>
        <p:spPr>
          <a:xfrm>
            <a:off x="2341800" y="936360"/>
            <a:ext cx="3316680" cy="5648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ti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38280" y="137160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yoll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213372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w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2895480"/>
            <a:ext cx="1752840" cy="60984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k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365760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b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441972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5181480"/>
            <a:ext cx="1752840" cy="60984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g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37160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213372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2895480"/>
            <a:ext cx="17524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65760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441972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05520" y="5181480"/>
            <a:ext cx="17524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14600" y="12942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14600" y="2056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600" y="28184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4600" y="36565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4600" y="4342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4600" y="51044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276720" y="76212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6095880" y="762120"/>
            <a:ext cx="271008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380880" y="3962520"/>
            <a:ext cx="26449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3200400" y="3962520"/>
            <a:ext cx="26733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6019920" y="3962520"/>
            <a:ext cx="27460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"/>
          <p:cNvSpPr txBox="1"/>
          <p:nvPr/>
        </p:nvSpPr>
        <p:spPr>
          <a:xfrm>
            <a:off x="541800" y="398880"/>
            <a:ext cx="2116800" cy="4514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hung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81280" y="380880"/>
            <a:ext cx="2286000" cy="48744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thirs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72200" y="380880"/>
            <a:ext cx="2286000" cy="48744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e’re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505320"/>
            <a:ext cx="2286000" cy="48708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t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3505320"/>
            <a:ext cx="2286000" cy="48708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c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3505320"/>
            <a:ext cx="2286000" cy="487080"/>
          </a:xfrm>
          <a:prstGeom prst="wedgeRoundRectCallout">
            <a:avLst>
              <a:gd name="adj1" fmla="val -40833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h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447920" y="9140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274320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35053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286000" y="17524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Saturday, 17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January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434340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. A 1 (P.104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62120" y="1523880"/>
            <a:ext cx="7848360" cy="1067040"/>
          </a:xfrm>
          <a:prstGeom prst="wedgeRoundRectCallout">
            <a:avLst>
              <a:gd name="adj1" fmla="val -54208"/>
              <a:gd name="adj2" fmla="val 13854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 you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3352680"/>
            <a:ext cx="6095880" cy="1067040"/>
          </a:xfrm>
          <a:prstGeom prst="wedgeRoundRectCallout">
            <a:avLst>
              <a:gd name="adj1" fmla="val 60495"/>
              <a:gd name="adj2" fmla="val 122768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I’m hung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 flipH="1" rot="16200000">
            <a:off x="3962160" y="1676160"/>
            <a:ext cx="1219320" cy="914400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5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295280" y="685800"/>
            <a:ext cx="24368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"/>
          <p:cNvSpPr/>
          <p:nvPr/>
        </p:nvSpPr>
        <p:spPr>
          <a:xfrm>
            <a:off x="1752480" y="3505320"/>
            <a:ext cx="5943600" cy="1066680"/>
          </a:xfrm>
          <a:prstGeom prst="wedgeRoundRectCallout">
            <a:avLst>
              <a:gd name="adj1" fmla="val -70939"/>
              <a:gd name="adj2" fmla="val 6711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es he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4800600"/>
            <a:ext cx="5791320" cy="1066680"/>
          </a:xfrm>
          <a:prstGeom prst="wedgeRoundRectCallout">
            <a:avLst>
              <a:gd name="adj1" fmla="val 57703"/>
              <a:gd name="adj2" fmla="val 91370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’s ho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90720" y="380880"/>
            <a:ext cx="9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2057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ow do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743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I’m hung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11430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Model sentences</a:t>
            </a:r>
            <a:r>
              <a:rPr b="0" i="1" lang="en-US" sz="48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0" y="34290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ow does he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0" y="4114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e’s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76920" y="25909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96252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76720" y="3276720"/>
            <a:ext cx="1218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5320" y="464832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276720" y="76212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095880" y="762120"/>
            <a:ext cx="271008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264492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3276720" y="3581280"/>
            <a:ext cx="267336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6095880" y="3581280"/>
            <a:ext cx="274644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648320" cy="46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3" name=""/>
          <p:cNvSpPr/>
          <p:nvPr/>
        </p:nvSpPr>
        <p:spPr>
          <a:xfrm>
            <a:off x="2209680" y="54100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9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447920" y="9140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274320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35053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0" y="17524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Saturday, 17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January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8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2209680" y="838080"/>
            <a:ext cx="449604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1" name=""/>
          <p:cNvSpPr/>
          <p:nvPr/>
        </p:nvSpPr>
        <p:spPr>
          <a:xfrm>
            <a:off x="1752480" y="5029200"/>
            <a:ext cx="5791320" cy="1066680"/>
          </a:xfrm>
          <a:prstGeom prst="wedgeRoundRectCallout">
            <a:avLst>
              <a:gd name="adj1" fmla="val 55620"/>
              <a:gd name="adj2" fmla="val 76041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I’m hung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33720" y="548640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1447920" y="609480"/>
            <a:ext cx="2361960" cy="23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4" name=""/>
          <p:cNvSpPr/>
          <p:nvPr/>
        </p:nvSpPr>
        <p:spPr>
          <a:xfrm>
            <a:off x="838080" y="2971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3581280"/>
            <a:ext cx="5943600" cy="1067040"/>
          </a:xfrm>
          <a:prstGeom prst="wedgeRoundRectCallout">
            <a:avLst>
              <a:gd name="adj1" fmla="val -70939"/>
              <a:gd name="adj2" fmla="val 6711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 you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266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Answer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4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7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"/>
          <p:cNvSpPr/>
          <p:nvPr/>
        </p:nvSpPr>
        <p:spPr>
          <a:xfrm>
            <a:off x="0" y="2971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Change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6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9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4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1148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3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2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1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304920"/>
            <a:ext cx="6095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3505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95680" y="1676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®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35053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ã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447920" y="2209680"/>
            <a:ext cx="2209680" cy="657720"/>
            <a:chOff x="1447920" y="2209680"/>
            <a:chExt cx="2209680" cy="657720"/>
          </a:xfrm>
        </p:grpSpPr>
        <p:sp>
          <p:nvSpPr>
            <p:cNvPr id="293" name=""/>
            <p:cNvSpPr/>
            <p:nvPr/>
          </p:nvSpPr>
          <p:spPr>
            <a:xfrm>
              <a:off x="1447920" y="22860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irs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28800" y="2209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57200" y="3808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2895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4114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l¹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95680" y="22860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kh¸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2895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724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mÖ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4724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4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3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76520" y="1600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13880" y="464832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563724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564984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371600" y="457200"/>
            <a:ext cx="563868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74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"/>
          <p:cNvSpPr/>
          <p:nvPr/>
        </p:nvSpPr>
        <p:spPr>
          <a:xfrm>
            <a:off x="1143000" y="228600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Ask and answer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in the halve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648320" cy="46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1" name=""/>
          <p:cNvSpPr/>
          <p:nvPr/>
        </p:nvSpPr>
        <p:spPr>
          <a:xfrm>
            <a:off x="2209680" y="54100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4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7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"/>
          <p:cNvSpPr/>
          <p:nvPr/>
        </p:nvSpPr>
        <p:spPr>
          <a:xfrm>
            <a:off x="0" y="2819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Change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6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9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254320" cy="22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2254320" cy="225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248520" y="380880"/>
            <a:ext cx="2286000" cy="22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609480" y="3352680"/>
            <a:ext cx="229716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3429000" y="3352680"/>
            <a:ext cx="23209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6248520" y="3352680"/>
            <a:ext cx="238428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9" name=""/>
          <p:cNvSpPr/>
          <p:nvPr/>
        </p:nvSpPr>
        <p:spPr>
          <a:xfrm>
            <a:off x="609480" y="2590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2666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48520" y="2590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5867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5867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324480" y="5867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49264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249228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6019920" y="380880"/>
            <a:ext cx="249228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6019920" y="3619440"/>
            <a:ext cx="251748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3276720" y="3600360"/>
            <a:ext cx="249084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609480" y="3629160"/>
            <a:ext cx="2492640" cy="294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1" name=""/>
          <p:cNvSpPr/>
          <p:nvPr/>
        </p:nvSpPr>
        <p:spPr>
          <a:xfrm>
            <a:off x="609480" y="380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76720" y="380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19920" y="380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3657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76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04920"/>
            <a:ext cx="6095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3505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1676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®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35053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ã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447920" y="2209680"/>
            <a:ext cx="2209680" cy="657720"/>
            <a:chOff x="1447920" y="2209680"/>
            <a:chExt cx="2209680" cy="657720"/>
          </a:xfrm>
        </p:grpSpPr>
        <p:sp>
          <p:nvSpPr>
            <p:cNvPr id="324" name=""/>
            <p:cNvSpPr/>
            <p:nvPr/>
          </p:nvSpPr>
          <p:spPr>
            <a:xfrm>
              <a:off x="1447920" y="22860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irs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28800" y="2209680"/>
              <a:ext cx="304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57200" y="3808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2895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4114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l¹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95680" y="22860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kh¸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95680" y="2895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95680" y="4724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mÖ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9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2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5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8736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8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8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1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340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4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6" name=""/>
          <p:cNvGrpSpPr/>
          <p:nvPr/>
        </p:nvGrpSpPr>
        <p:grpSpPr>
          <a:xfrm>
            <a:off x="1371600" y="1447920"/>
            <a:ext cx="6564240" cy="4838760"/>
            <a:chOff x="1371600" y="1447920"/>
            <a:chExt cx="6564240" cy="4838760"/>
          </a:xfrm>
        </p:grpSpPr>
        <p:pic>
          <p:nvPicPr>
            <p:cNvPr id="547" name="" descr=""/>
            <p:cNvPicPr/>
            <p:nvPr/>
          </p:nvPicPr>
          <p:blipFill>
            <a:blip r:embed="rId2"/>
            <a:stretch/>
          </p:blipFill>
          <p:spPr>
            <a:xfrm>
              <a:off x="1371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3657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9" name="" descr=""/>
            <p:cNvPicPr/>
            <p:nvPr/>
          </p:nvPicPr>
          <p:blipFill>
            <a:blip r:embed="rId4"/>
            <a:stretch/>
          </p:blipFill>
          <p:spPr>
            <a:xfrm>
              <a:off x="6019560" y="1447920"/>
              <a:ext cx="189720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0" name="" descr=""/>
            <p:cNvPicPr/>
            <p:nvPr/>
          </p:nvPicPr>
          <p:blipFill>
            <a:blip r:embed="rId5"/>
            <a:stretch/>
          </p:blipFill>
          <p:spPr>
            <a:xfrm>
              <a:off x="6019560" y="4038840"/>
              <a:ext cx="1916280" cy="2247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1" name="" descr=""/>
            <p:cNvPicPr/>
            <p:nvPr/>
          </p:nvPicPr>
          <p:blipFill>
            <a:blip r:embed="rId6"/>
            <a:stretch/>
          </p:blipFill>
          <p:spPr>
            <a:xfrm>
              <a:off x="3657600" y="3981600"/>
              <a:ext cx="1895400" cy="2262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2" name="" descr=""/>
            <p:cNvPicPr/>
            <p:nvPr/>
          </p:nvPicPr>
          <p:blipFill>
            <a:blip r:embed="rId7"/>
            <a:stretch/>
          </p:blipFill>
          <p:spPr>
            <a:xfrm>
              <a:off x="1371600" y="4038840"/>
              <a:ext cx="1896840" cy="22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553" name=""/>
          <p:cNvSpPr/>
          <p:nvPr/>
        </p:nvSpPr>
        <p:spPr>
          <a:xfrm>
            <a:off x="1371600" y="685800"/>
            <a:ext cx="655308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uong      Nhan      Ba     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371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657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716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0199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1371600" y="38052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220968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9480" y="297180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209680" y="1219320"/>
            <a:ext cx="556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565" name=""/>
          <p:cNvSpPr/>
          <p:nvPr/>
        </p:nvSpPr>
        <p:spPr>
          <a:xfrm>
            <a:off x="609480" y="3809880"/>
            <a:ext cx="7086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. A 1 (P.104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9480" y="4724280"/>
            <a:ext cx="7086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I. A 5 (P.106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8" name=""/>
          <p:cNvGrpSpPr/>
          <p:nvPr/>
        </p:nvGrpSpPr>
        <p:grpSpPr>
          <a:xfrm>
            <a:off x="1371600" y="1447920"/>
            <a:ext cx="6564240" cy="4838760"/>
            <a:chOff x="1371600" y="1447920"/>
            <a:chExt cx="6564240" cy="4838760"/>
          </a:xfrm>
        </p:grpSpPr>
        <p:pic>
          <p:nvPicPr>
            <p:cNvPr id="569" name="" descr=""/>
            <p:cNvPicPr/>
            <p:nvPr/>
          </p:nvPicPr>
          <p:blipFill>
            <a:blip r:embed="rId2"/>
            <a:stretch/>
          </p:blipFill>
          <p:spPr>
            <a:xfrm>
              <a:off x="1371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3657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1" name="" descr=""/>
            <p:cNvPicPr/>
            <p:nvPr/>
          </p:nvPicPr>
          <p:blipFill>
            <a:blip r:embed="rId4"/>
            <a:stretch/>
          </p:blipFill>
          <p:spPr>
            <a:xfrm>
              <a:off x="6019560" y="1447920"/>
              <a:ext cx="189720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2" name="" descr=""/>
            <p:cNvPicPr/>
            <p:nvPr/>
          </p:nvPicPr>
          <p:blipFill>
            <a:blip r:embed="rId5"/>
            <a:stretch/>
          </p:blipFill>
          <p:spPr>
            <a:xfrm>
              <a:off x="6019560" y="4038840"/>
              <a:ext cx="1916280" cy="2247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3" name="" descr=""/>
            <p:cNvPicPr/>
            <p:nvPr/>
          </p:nvPicPr>
          <p:blipFill>
            <a:blip r:embed="rId6"/>
            <a:stretch/>
          </p:blipFill>
          <p:spPr>
            <a:xfrm>
              <a:off x="3657600" y="3981600"/>
              <a:ext cx="1895400" cy="2262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4" name="" descr=""/>
            <p:cNvPicPr/>
            <p:nvPr/>
          </p:nvPicPr>
          <p:blipFill>
            <a:blip r:embed="rId7"/>
            <a:stretch/>
          </p:blipFill>
          <p:spPr>
            <a:xfrm>
              <a:off x="1371600" y="4038840"/>
              <a:ext cx="1896840" cy="22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575" name=""/>
          <p:cNvSpPr/>
          <p:nvPr/>
        </p:nvSpPr>
        <p:spPr>
          <a:xfrm>
            <a:off x="1371600" y="685800"/>
            <a:ext cx="655308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657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9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3716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57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0199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004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1722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0.25417 0.35507 E">
                                      <p:cBhvr>
                                        <p:cTn id="398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-0.17916 0.35507 E">
                                      <p:cBhvr>
                                        <p:cTn id="403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10541E-006 L 0.17083 0.73232 E">
                                      <p:cBhvr>
                                        <p:cTn id="408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-0.52083 0.73232 E">
                                      <p:cBhvr>
                                        <p:cTn id="413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762120" y="1295280"/>
            <a:ext cx="739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048120"/>
            <a:ext cx="647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2133720"/>
            <a:ext cx="6248520" cy="1904760"/>
          </a:xfrm>
          <a:prstGeom prst="horizontalScroll">
            <a:avLst>
              <a:gd name="adj" fmla="val 12500"/>
            </a:avLst>
          </a:prstGeom>
          <a:solidFill>
            <a:srgbClr val="ffe575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676520" y="26668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I’m……..</a:t>
            </a: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43434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4876920" y="11430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5"/>
          <a:stretch/>
        </p:blipFill>
        <p:spPr>
          <a:xfrm>
            <a:off x="34290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6"/>
          <a:stretch/>
        </p:blipFill>
        <p:spPr>
          <a:xfrm>
            <a:off x="38862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7"/>
          <a:stretch/>
        </p:blipFill>
        <p:spPr>
          <a:xfrm>
            <a:off x="2438280" y="441972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3048120" y="44197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Are you ..................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54100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Monotype Corsiva"/>
              </a:rPr>
              <a:t>Ye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54100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Monotype Corsiva"/>
              </a:rPr>
              <a:t>/ No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8"/>
          <a:stretch/>
        </p:blipFill>
        <p:spPr>
          <a:xfrm>
            <a:off x="1447920" y="4419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9"/>
          <a:stretch/>
        </p:blipFill>
        <p:spPr>
          <a:xfrm>
            <a:off x="1981080" y="44197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10"/>
          <a:stretch/>
        </p:blipFill>
        <p:spPr>
          <a:xfrm>
            <a:off x="990720" y="441972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200400" y="60948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6019920" y="609480"/>
            <a:ext cx="270972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380880" y="3429000"/>
            <a:ext cx="26449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3200400" y="3429000"/>
            <a:ext cx="26733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6019920" y="3429000"/>
            <a:ext cx="27460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295280" y="9907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V. Homework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45720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828800" y="2514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) A1 (P. 1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32004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) A5 (P.1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00200" y="3809880"/>
            <a:ext cx="640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Monotype Corsiva"/>
              </a:rPr>
              <a:t>Example: A1 (P. 10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33720" y="4495680"/>
            <a:ext cx="6099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Monotype Corsiva"/>
              </a:rPr>
              <a:t>a) He is hungr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639040" cy="559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63868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791320" cy="567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3:59:59Z</dcterms:created>
  <dc:creator/>
  <dc:description/>
  <dc:language>en-US</dc:language>
  <cp:lastModifiedBy>Quy Khach Hang</cp:lastModifiedBy>
  <dcterms:modified xsi:type="dcterms:W3CDTF">2009-08-23T14:45:40Z</dcterms:modified>
  <cp:revision>23</cp:revision>
  <dc:subject/>
  <dc:title>English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