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0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2.png" ContentType="image/png"/>
  <Override PartName="/ppt/media/image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897-6859-49B3-900F-4E0869BA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0B6-9C1F-4FE1-83D7-11FE0DD3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401-AEE9-44C5-B6D7-0FF0717F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AC4-8252-4726-9FC7-E0F45936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3D0F-6CFB-41E6-A0EF-E8E307AE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3590-4B17-4CA4-801D-ABB006CB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E7A6-29CD-4E9B-AD6A-1A797785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991E-18F0-47B8-9284-F865ACB3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E3FA-1A44-4C69-B8C0-430A015C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7835-70A3-4D41-9545-D726D34C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B0ED-6D4D-4FF9-9AF3-570FEA1A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148-52E3-453F-812C-5C21DAC2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B169-5E65-4160-9E79-D459B759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7EDC-6C66-41B8-86B3-C5C631BE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D15E-2C2C-41E8-9842-08305E22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72DC-301E-4588-AADF-5985D108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AA65-52F2-4B7F-AAB2-AA10E4CA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B34F8-3A00-48CC-B4CD-B29AC088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436FE-95B1-4286-A0F8-99E0167B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AF8EF-307C-4B33-969A-4AA96A00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A8C24-D246-44AC-805E-921C50B5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0D524-3B87-4EFF-ADEA-1DD85F44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08A-3228-4B52-97AD-3D825BD4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AEF4A-FFF6-4131-A7FB-15D2383A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6D4E-7253-4928-9BE2-3AD651BF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E28C5-5776-4758-BB4C-9D727473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5C80A-F7FE-4B77-A7A8-63A3E281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6CABB-DDED-4555-B7C8-617795C8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EE142-4187-440A-AA88-02BA218A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3B00F-602E-4CD6-9F61-23210A91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5BFF0-DEBA-486F-8CEE-4E499D18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3FBA4-A6E7-4EA0-B116-3DE7A69A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EFE3C-B232-4993-A089-5025A734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E622-8639-4B85-AAD2-1AB640E0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50943-EA4D-4748-9429-A612A6BE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A3BE2-C677-4993-8B9F-5C6C6D62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630DB-95A6-4ADD-9D8E-FC0BADE6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16301-05C6-407E-A472-1D1021A6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3E06C-1D8A-4C75-A73E-286AA2AD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3B9B9-B10D-4063-B6A8-BCB5104E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02976-7531-47BB-98F0-476A55A9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22F7E-42CF-4485-A1B3-CBB297B0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CF6DF-3CC1-4238-88A0-9EF033F1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ECB2B-E079-42E9-95B7-4F2D00F9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1EB-A033-47DA-BCE2-4375AB0A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24142-6F6E-464E-8CD6-A80B3B03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484FC-4DDF-4791-AFE6-7F684524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52A8C-721F-407B-A1C3-414C42D4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B9982-E9B2-4971-99B2-5DE2F642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04369-8C49-4D7A-96E6-42925ABF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B6F22-B59F-4E41-AF87-F212FF5E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2E3F3-A513-4F2B-AB16-59AB1FFB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5D11B-3A5C-4616-BF66-6B98D8F9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7E768-ACDC-4A75-8946-358AB276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23BBA-39C1-4767-AC28-F173E1FD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592-BE00-4CA2-81AF-936A48E0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C25D8-1845-42BA-8E7B-EE6F5C52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FBD59-2FF6-41BE-98C0-5A0914EA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FC89F-D7E0-43CB-89CB-0A68F05D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6F406-73B5-4DE6-89F3-0748825B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99C8A-C062-4624-8409-9F22EAA9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497C4-8255-48E2-965A-9A0D64DE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55252-16CC-4949-A352-119372D7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1F2D1-D541-449C-A29E-E1E539C1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FD139-E13B-4050-B77D-B9CE4156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D86D5-184A-4B0A-B798-44B2CDFE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A0A-2B7A-4A58-9B34-37FAEDBB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59052-7D89-46D5-9E8E-94E40106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04701-3AC8-49E0-A5C5-C56692B3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56377-4499-4A51-8985-EA40A10C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4758-ECAE-4A54-8BF5-19105D53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C87-0135-45E6-849B-B167A3BC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5AD8-A9C3-4AB2-80D2-25F776F8A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2069-809D-4E1A-8156-25BF1EF54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BBDA-1B23-4802-863A-9CD3B2EF3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AB5B-E80C-4AFA-BA5F-449691335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B724-FBBF-4BE9-AE39-4120B19ED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9F65-04DB-4A96-8EB5-CBB5F7D00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6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3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1148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2768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41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10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Monotype Corsiva"/>
              </a:rPr>
              <a:t>Listen and repeat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752480" y="1258920"/>
            <a:ext cx="5639040" cy="559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" name=""/>
          <p:cNvSpPr txBox="1"/>
          <p:nvPr/>
        </p:nvSpPr>
        <p:spPr>
          <a:xfrm>
            <a:off x="4486680" y="559800"/>
            <a:ext cx="3598920" cy="6631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63868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9" name=""/>
          <p:cNvSpPr txBox="1"/>
          <p:nvPr/>
        </p:nvSpPr>
        <p:spPr>
          <a:xfrm>
            <a:off x="2372760" y="406800"/>
            <a:ext cx="4092840" cy="66348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thirs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752480" y="1185840"/>
            <a:ext cx="5791320" cy="56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1" name=""/>
          <p:cNvSpPr txBox="1"/>
          <p:nvPr/>
        </p:nvSpPr>
        <p:spPr>
          <a:xfrm>
            <a:off x="3592080" y="488160"/>
            <a:ext cx="4092840" cy="77616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’re fu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3" name=""/>
          <p:cNvSpPr txBox="1"/>
          <p:nvPr/>
        </p:nvSpPr>
        <p:spPr>
          <a:xfrm>
            <a:off x="2415240" y="631800"/>
            <a:ext cx="3246120" cy="5652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’m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768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5" name=""/>
          <p:cNvSpPr txBox="1"/>
          <p:nvPr/>
        </p:nvSpPr>
        <p:spPr>
          <a:xfrm>
            <a:off x="666000" y="788400"/>
            <a:ext cx="3316320" cy="6631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c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41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7" name=""/>
          <p:cNvSpPr txBox="1"/>
          <p:nvPr/>
        </p:nvSpPr>
        <p:spPr>
          <a:xfrm>
            <a:off x="2341800" y="936360"/>
            <a:ext cx="3316680" cy="5648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ti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38280" y="137160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yoll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13372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w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2895480"/>
            <a:ext cx="1752840" cy="60984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k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365760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b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441972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5181480"/>
            <a:ext cx="1752840" cy="60984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g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37160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213372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2895480"/>
            <a:ext cx="17524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65760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441972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05520" y="5181480"/>
            <a:ext cx="17524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14600" y="12942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14600" y="2056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600" y="28184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4600" y="36565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4600" y="4342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4600" y="51044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6095880" y="762120"/>
            <a:ext cx="271008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380880" y="3962520"/>
            <a:ext cx="26449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3200400" y="3962520"/>
            <a:ext cx="26733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6019920" y="3962520"/>
            <a:ext cx="27460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"/>
          <p:cNvSpPr txBox="1"/>
          <p:nvPr/>
        </p:nvSpPr>
        <p:spPr>
          <a:xfrm>
            <a:off x="541800" y="398880"/>
            <a:ext cx="2116800" cy="4514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81280" y="380880"/>
            <a:ext cx="2286000" cy="48744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thirs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72200" y="380880"/>
            <a:ext cx="2286000" cy="48744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’re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505320"/>
            <a:ext cx="2286000" cy="48708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t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3505320"/>
            <a:ext cx="2286000" cy="48708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c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3505320"/>
            <a:ext cx="2286000" cy="487080"/>
          </a:xfrm>
          <a:prstGeom prst="wedgeRoundRectCallout">
            <a:avLst>
              <a:gd name="adj1" fmla="val -40833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h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274320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35053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286000" y="17524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Saturday, 17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January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434340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. A 1 (P.104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62120" y="1523880"/>
            <a:ext cx="7848360" cy="1067040"/>
          </a:xfrm>
          <a:prstGeom prst="wedgeRoundRectCallout">
            <a:avLst>
              <a:gd name="adj1" fmla="val -54208"/>
              <a:gd name="adj2" fmla="val 13854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 you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3352680"/>
            <a:ext cx="6095880" cy="1067040"/>
          </a:xfrm>
          <a:prstGeom prst="wedgeRoundRectCallout">
            <a:avLst>
              <a:gd name="adj1" fmla="val 60495"/>
              <a:gd name="adj2" fmla="val 122768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I’m hung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 flipH="1" rot="16200000">
            <a:off x="3962160" y="1676160"/>
            <a:ext cx="1219320" cy="914400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5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24368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"/>
          <p:cNvSpPr/>
          <p:nvPr/>
        </p:nvSpPr>
        <p:spPr>
          <a:xfrm>
            <a:off x="1752480" y="3505320"/>
            <a:ext cx="5943600" cy="1066680"/>
          </a:xfrm>
          <a:prstGeom prst="wedgeRoundRectCallout">
            <a:avLst>
              <a:gd name="adj1" fmla="val -70939"/>
              <a:gd name="adj2" fmla="val 6711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es he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4800600"/>
            <a:ext cx="5791320" cy="1066680"/>
          </a:xfrm>
          <a:prstGeom prst="wedgeRoundRectCallout">
            <a:avLst>
              <a:gd name="adj1" fmla="val 57703"/>
              <a:gd name="adj2" fmla="val 91370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’s ho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90720" y="38088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2057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ow do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743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I’m hung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11430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Model sentences</a:t>
            </a:r>
            <a:r>
              <a:rPr b="0" i="1" lang="en-US" sz="48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0" y="34290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ow does he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0" y="4114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e’s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76920" y="2590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96252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76720" y="3276720"/>
            <a:ext cx="1218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464832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095880" y="762120"/>
            <a:ext cx="271008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264492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3276720" y="3581280"/>
            <a:ext cx="267336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6095880" y="3581280"/>
            <a:ext cx="274644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648320" cy="46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3" name=""/>
          <p:cNvSpPr/>
          <p:nvPr/>
        </p:nvSpPr>
        <p:spPr>
          <a:xfrm>
            <a:off x="2209680" y="54100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9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274320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35053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0" y="17524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Saturday, 17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January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8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2209680" y="838080"/>
            <a:ext cx="449604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1" name=""/>
          <p:cNvSpPr/>
          <p:nvPr/>
        </p:nvSpPr>
        <p:spPr>
          <a:xfrm>
            <a:off x="1752480" y="5029200"/>
            <a:ext cx="5791320" cy="1066680"/>
          </a:xfrm>
          <a:prstGeom prst="wedgeRoundRectCallout">
            <a:avLst>
              <a:gd name="adj1" fmla="val 55620"/>
              <a:gd name="adj2" fmla="val 76041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I’m hung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33720" y="548640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1447920" y="609480"/>
            <a:ext cx="2361960" cy="23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4" name=""/>
          <p:cNvSpPr/>
          <p:nvPr/>
        </p:nvSpPr>
        <p:spPr>
          <a:xfrm>
            <a:off x="838080" y="2971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3581280"/>
            <a:ext cx="5943600" cy="1067040"/>
          </a:xfrm>
          <a:prstGeom prst="wedgeRoundRectCallout">
            <a:avLst>
              <a:gd name="adj1" fmla="val -70939"/>
              <a:gd name="adj2" fmla="val 6711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 you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266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Answer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4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7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"/>
          <p:cNvSpPr/>
          <p:nvPr/>
        </p:nvSpPr>
        <p:spPr>
          <a:xfrm>
            <a:off x="0" y="2971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Change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6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9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4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1148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3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2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1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304920"/>
            <a:ext cx="6095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95680" y="1676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®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35053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ã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447920" y="2209680"/>
            <a:ext cx="2209680" cy="657720"/>
            <a:chOff x="1447920" y="2209680"/>
            <a:chExt cx="2209680" cy="657720"/>
          </a:xfrm>
        </p:grpSpPr>
        <p:sp>
          <p:nvSpPr>
            <p:cNvPr id="293" name=""/>
            <p:cNvSpPr/>
            <p:nvPr/>
          </p:nvSpPr>
          <p:spPr>
            <a:xfrm>
              <a:off x="1447920" y="22860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irs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28800" y="2209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57200" y="3808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4114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l¹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95680" y="22860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kh¸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2895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mÖ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4724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4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3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76520" y="1600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13880" y="464832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563724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564984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371600" y="457200"/>
            <a:ext cx="563868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74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"/>
          <p:cNvSpPr/>
          <p:nvPr/>
        </p:nvSpPr>
        <p:spPr>
          <a:xfrm>
            <a:off x="1143000" y="228600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Ask and answe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in the halve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648320" cy="46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1" name=""/>
          <p:cNvSpPr/>
          <p:nvPr/>
        </p:nvSpPr>
        <p:spPr>
          <a:xfrm>
            <a:off x="2209680" y="54100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4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7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Change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6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9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254320" cy="22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2254320" cy="22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248520" y="380880"/>
            <a:ext cx="2286000" cy="22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609480" y="3352680"/>
            <a:ext cx="229716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3429000" y="3352680"/>
            <a:ext cx="23209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6248520" y="3352680"/>
            <a:ext cx="238428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9" name=""/>
          <p:cNvSpPr/>
          <p:nvPr/>
        </p:nvSpPr>
        <p:spPr>
          <a:xfrm>
            <a:off x="609480" y="2590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2666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48520" y="2590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5867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5867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324480" y="5867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49264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249228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6019920" y="380880"/>
            <a:ext cx="249228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6019920" y="3619440"/>
            <a:ext cx="251748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3276720" y="3600360"/>
            <a:ext cx="249084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609480" y="3629160"/>
            <a:ext cx="2492640" cy="294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1" name=""/>
          <p:cNvSpPr/>
          <p:nvPr/>
        </p:nvSpPr>
        <p:spPr>
          <a:xfrm>
            <a:off x="609480" y="380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76720" y="380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380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3657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04920"/>
            <a:ext cx="6095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1676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®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35053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ã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447920" y="2209680"/>
            <a:ext cx="2209680" cy="657720"/>
            <a:chOff x="1447920" y="2209680"/>
            <a:chExt cx="2209680" cy="657720"/>
          </a:xfrm>
        </p:grpSpPr>
        <p:sp>
          <p:nvSpPr>
            <p:cNvPr id="324" name=""/>
            <p:cNvSpPr/>
            <p:nvPr/>
          </p:nvSpPr>
          <p:spPr>
            <a:xfrm>
              <a:off x="1447920" y="22860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irs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28800" y="2209680"/>
              <a:ext cx="304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57200" y="3808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4114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l¹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95680" y="22860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kh¸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5680" y="2895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956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mÖ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9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2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5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8736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8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8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1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340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4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6" name=""/>
          <p:cNvGrpSpPr/>
          <p:nvPr/>
        </p:nvGrpSpPr>
        <p:grpSpPr>
          <a:xfrm>
            <a:off x="1371600" y="1447920"/>
            <a:ext cx="6564240" cy="4838760"/>
            <a:chOff x="1371600" y="1447920"/>
            <a:chExt cx="6564240" cy="4838760"/>
          </a:xfrm>
        </p:grpSpPr>
        <p:pic>
          <p:nvPicPr>
            <p:cNvPr id="547" name="" descr=""/>
            <p:cNvPicPr/>
            <p:nvPr/>
          </p:nvPicPr>
          <p:blipFill>
            <a:blip r:embed="rId2"/>
            <a:stretch/>
          </p:blipFill>
          <p:spPr>
            <a:xfrm>
              <a:off x="1371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3657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9" name="" descr=""/>
            <p:cNvPicPr/>
            <p:nvPr/>
          </p:nvPicPr>
          <p:blipFill>
            <a:blip r:embed="rId4"/>
            <a:stretch/>
          </p:blipFill>
          <p:spPr>
            <a:xfrm>
              <a:off x="6019560" y="1447920"/>
              <a:ext cx="189720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0" name="" descr=""/>
            <p:cNvPicPr/>
            <p:nvPr/>
          </p:nvPicPr>
          <p:blipFill>
            <a:blip r:embed="rId5"/>
            <a:stretch/>
          </p:blipFill>
          <p:spPr>
            <a:xfrm>
              <a:off x="6019560" y="4038840"/>
              <a:ext cx="1916280" cy="224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1" name="" descr=""/>
            <p:cNvPicPr/>
            <p:nvPr/>
          </p:nvPicPr>
          <p:blipFill>
            <a:blip r:embed="rId6"/>
            <a:stretch/>
          </p:blipFill>
          <p:spPr>
            <a:xfrm>
              <a:off x="3657600" y="3981600"/>
              <a:ext cx="1895400" cy="22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2" name="" descr=""/>
            <p:cNvPicPr/>
            <p:nvPr/>
          </p:nvPicPr>
          <p:blipFill>
            <a:blip r:embed="rId7"/>
            <a:stretch/>
          </p:blipFill>
          <p:spPr>
            <a:xfrm>
              <a:off x="1371600" y="4038840"/>
              <a:ext cx="1896840" cy="22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53" name=""/>
          <p:cNvSpPr/>
          <p:nvPr/>
        </p:nvSpPr>
        <p:spPr>
          <a:xfrm>
            <a:off x="1371600" y="685800"/>
            <a:ext cx="655308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uong      Nhan      Ba     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371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657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716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0199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1371600" y="38052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220968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9480" y="297180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209680" y="1219320"/>
            <a:ext cx="556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565" name=""/>
          <p:cNvSpPr/>
          <p:nvPr/>
        </p:nvSpPr>
        <p:spPr>
          <a:xfrm>
            <a:off x="609480" y="3809880"/>
            <a:ext cx="7086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. A 1 (P.104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9480" y="4724280"/>
            <a:ext cx="7086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I. A 5 (P.106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8" name=""/>
          <p:cNvGrpSpPr/>
          <p:nvPr/>
        </p:nvGrpSpPr>
        <p:grpSpPr>
          <a:xfrm>
            <a:off x="1371600" y="1447920"/>
            <a:ext cx="6564240" cy="4838760"/>
            <a:chOff x="1371600" y="1447920"/>
            <a:chExt cx="6564240" cy="4838760"/>
          </a:xfrm>
        </p:grpSpPr>
        <p:pic>
          <p:nvPicPr>
            <p:cNvPr id="569" name="" descr=""/>
            <p:cNvPicPr/>
            <p:nvPr/>
          </p:nvPicPr>
          <p:blipFill>
            <a:blip r:embed="rId2"/>
            <a:stretch/>
          </p:blipFill>
          <p:spPr>
            <a:xfrm>
              <a:off x="1371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3657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1" name="" descr=""/>
            <p:cNvPicPr/>
            <p:nvPr/>
          </p:nvPicPr>
          <p:blipFill>
            <a:blip r:embed="rId4"/>
            <a:stretch/>
          </p:blipFill>
          <p:spPr>
            <a:xfrm>
              <a:off x="6019560" y="1447920"/>
              <a:ext cx="189720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2" name="" descr=""/>
            <p:cNvPicPr/>
            <p:nvPr/>
          </p:nvPicPr>
          <p:blipFill>
            <a:blip r:embed="rId5"/>
            <a:stretch/>
          </p:blipFill>
          <p:spPr>
            <a:xfrm>
              <a:off x="6019560" y="4038840"/>
              <a:ext cx="1916280" cy="224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3" name="" descr=""/>
            <p:cNvPicPr/>
            <p:nvPr/>
          </p:nvPicPr>
          <p:blipFill>
            <a:blip r:embed="rId6"/>
            <a:stretch/>
          </p:blipFill>
          <p:spPr>
            <a:xfrm>
              <a:off x="3657600" y="3981600"/>
              <a:ext cx="1895400" cy="22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4" name="" descr=""/>
            <p:cNvPicPr/>
            <p:nvPr/>
          </p:nvPicPr>
          <p:blipFill>
            <a:blip r:embed="rId7"/>
            <a:stretch/>
          </p:blipFill>
          <p:spPr>
            <a:xfrm>
              <a:off x="1371600" y="4038840"/>
              <a:ext cx="1896840" cy="22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75" name=""/>
          <p:cNvSpPr/>
          <p:nvPr/>
        </p:nvSpPr>
        <p:spPr>
          <a:xfrm>
            <a:off x="1371600" y="685800"/>
            <a:ext cx="655308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657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9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3716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57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0199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04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1722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0.25417 0.35507 E">
                                      <p:cBhvr>
                                        <p:cTn id="398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-0.17916 0.35507 E">
                                      <p:cBhvr>
                                        <p:cTn id="403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10541E-006 L 0.17083 0.73232 E">
                                      <p:cBhvr>
                                        <p:cTn id="408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-0.52083 0.73232 E">
                                      <p:cBhvr>
                                        <p:cTn id="413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762120" y="1295280"/>
            <a:ext cx="739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048120"/>
            <a:ext cx="647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2133720"/>
            <a:ext cx="6248520" cy="1904760"/>
          </a:xfrm>
          <a:prstGeom prst="horizontalScroll">
            <a:avLst>
              <a:gd name="adj" fmla="val 12500"/>
            </a:avLst>
          </a:prstGeom>
          <a:solidFill>
            <a:srgbClr val="ffe575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676520" y="26668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I’m……..</a:t>
            </a: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43434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4876920" y="1143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5"/>
          <a:stretch/>
        </p:blipFill>
        <p:spPr>
          <a:xfrm>
            <a:off x="34290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6"/>
          <a:stretch/>
        </p:blipFill>
        <p:spPr>
          <a:xfrm>
            <a:off x="38862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7"/>
          <a:stretch/>
        </p:blipFill>
        <p:spPr>
          <a:xfrm>
            <a:off x="2438280" y="441972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048120" y="4419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Are you ..................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54100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Monotype Corsiva"/>
              </a:rPr>
              <a:t>Ye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54100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Monotype Corsiva"/>
              </a:rPr>
              <a:t>/ No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8"/>
          <a:stretch/>
        </p:blipFill>
        <p:spPr>
          <a:xfrm>
            <a:off x="1447920" y="4419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9"/>
          <a:stretch/>
        </p:blipFill>
        <p:spPr>
          <a:xfrm>
            <a:off x="1981080" y="44197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10"/>
          <a:stretch/>
        </p:blipFill>
        <p:spPr>
          <a:xfrm>
            <a:off x="990720" y="441972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200400" y="60948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6019920" y="609480"/>
            <a:ext cx="270972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380880" y="3429000"/>
            <a:ext cx="26449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3200400" y="3429000"/>
            <a:ext cx="26733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6019920" y="3429000"/>
            <a:ext cx="27460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295280" y="9907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V. Homework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45720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828800" y="2514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) A1 (P. 1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32004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) A5 (P.1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00200" y="3809880"/>
            <a:ext cx="640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Monotype Corsiva"/>
              </a:rPr>
              <a:t>Example: A1 (P. 10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33720" y="4495680"/>
            <a:ext cx="609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Monotype Corsiva"/>
              </a:rPr>
              <a:t>a) He is hungr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639040" cy="559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63868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791320" cy="56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3:59:59Z</dcterms:created>
  <dc:creator/>
  <dc:description/>
  <dc:language>en-US</dc:language>
  <cp:lastModifiedBy>Quy Khach Hang</cp:lastModifiedBy>
  <dcterms:modified xsi:type="dcterms:W3CDTF">2009-08-23T14:45:40Z</dcterms:modified>
  <cp:revision>23</cp:revision>
  <dc:subject/>
  <dc:title>English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