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417-AF2C-4698-B961-AB2519A3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542-73EF-4B5B-9495-D3AE20EE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7D5-FB83-4B3C-970E-5EB0078F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C26-9D3F-4A84-AE74-5D00A217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F6B1-C052-4641-92CB-10BF9803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2EF9-FD29-4D1B-9D87-0F0815BA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92AF-1D3C-4D8A-8FDF-B37FD389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12D2-F334-458F-8884-25AAB026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4742-A174-4B6A-92D0-A34C030E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935A-6A19-4EE5-B164-EED2AC0C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E410-E7A6-4BEB-97D4-7EAA8FF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BF4-47CA-4806-A62A-4BB43B20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58A3-32F1-43CB-9CC4-7A0A96C2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ADBF-2152-4730-BE15-E76848FB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405B-A43A-478C-BCD1-ED3AAFEE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1EE6-3C3F-439B-92E3-3480CA40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898F-02C9-4C26-A043-D57CDB7E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91F8-65CC-46E4-B9F4-F7F6156E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30D28-F1F0-4C85-80A8-F43AB5A2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7736-76FE-4CCE-8E33-EA953685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46EB-E372-4428-8A5C-2EF055FB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E341-2509-44D3-A7D2-04F808A1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506-5EEF-471B-80B3-847104E8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61C3-BE1B-4313-9529-DAFF6B65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B431-04C3-4E5E-8227-46BD195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A49DC-C408-4D49-A82C-03F20EBE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7521-BB13-4833-AC9A-441C0F95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23552-9A75-4750-8C78-39C5448B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8008-567F-4A09-AA5F-FB218679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4327-B36C-4158-BBDF-0E4647A2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EE17-378A-43C9-9413-4C9704CA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77A69-9E69-47A8-AD84-EEA2AD9E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9A268-5407-485A-AE03-A3A2A7FC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707-2FD2-47F4-9CBC-2ED2645B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618AA-276C-4241-89AD-72A6A8DA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61168-A9DF-4173-9253-6F4CCBF4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A4C3-F3A5-4DE6-A5BF-BBDC567A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9F0A-D318-428C-A235-BCB8E410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10FFB-7C28-4A3D-AB52-CAFB256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06A3F-4F39-47D5-AE1B-39F1E9A7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9987-4B07-4BDB-B476-898A8678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FA87-309E-4A45-9019-E41EADC8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1D1C-EFE0-4281-BD53-6076655E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82CBE-977F-49D2-B1DC-B9CAD0A3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CCD-5A1E-4DDA-B356-7CC57FCD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E518-CCBB-44E1-9336-FD978107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147C7-E68D-4F78-913B-FA1DA0FD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6D3ED-6BD4-4FF0-BAAE-812C1B47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D15E3-37E8-43BF-A220-FEF7C5A7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FD516-1C6C-4C1D-AF15-532AE98C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8D02-196D-4DE5-B2DF-23C9D91C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4C0C2-FFC3-4C0F-95E1-1400BDE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37D7B-8DBD-420A-BEDF-4EA4AA3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367E1-9742-4866-B785-F5999AFB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C5BE-D51D-4945-96DF-6EBA4C0F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F38-5207-40E9-AE38-84E14ADC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2F117-5D04-4781-A9AA-9717F1F6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E15D3-2BD9-49BD-9442-942FEE03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03BE5-557C-4579-BBBF-02C06525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24975-3C2E-4C73-8535-BF282289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9EBC9-2341-42CD-A1B9-13E35F72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7DFF5-718D-4704-8088-AF68DE66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6D216-3FD7-430D-AFCA-299AD405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1C6C-A456-41C7-8937-EAF2FE4E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CA6B-06A3-4C55-B56F-9213C039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ECFD9-3E05-4078-AAAA-8448DE9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7DF-7245-492B-B067-83C8730F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D1972-3730-4A56-9AE4-8E4EB587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AB1E8-8D61-437D-830F-9AFE1C87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243D9-8E8C-4802-B980-F5A6859A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CAA-B9C7-4E92-BEBE-86BE81E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FA0-BAEF-4799-BEB1-DB4074E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A630-37FA-45C1-A319-25E6BC82C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EBB6-217E-446C-956B-2B5D65599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2E65-9CD8-4C18-888D-F24CD810F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5C01-B4C8-40B0-8B7A-A846557C0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4423-CEAE-4F4C-9995-817D46969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F5E8-D45E-48C4-BE5F-23BFCD912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onotype Corsiva"/>
              </a:rPr>
              <a:t>Listen and repea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 txBox="1"/>
          <p:nvPr/>
        </p:nvSpPr>
        <p:spPr>
          <a:xfrm>
            <a:off x="4486680" y="559800"/>
            <a:ext cx="35989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"/>
          <p:cNvSpPr txBox="1"/>
          <p:nvPr/>
        </p:nvSpPr>
        <p:spPr>
          <a:xfrm>
            <a:off x="2372760" y="406800"/>
            <a:ext cx="4092840" cy="6634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52480" y="118584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 txBox="1"/>
          <p:nvPr/>
        </p:nvSpPr>
        <p:spPr>
          <a:xfrm>
            <a:off x="3592080" y="488160"/>
            <a:ext cx="4092840" cy="7761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 txBox="1"/>
          <p:nvPr/>
        </p:nvSpPr>
        <p:spPr>
          <a:xfrm>
            <a:off x="2415240" y="631800"/>
            <a:ext cx="3246120" cy="565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 txBox="1"/>
          <p:nvPr/>
        </p:nvSpPr>
        <p:spPr>
          <a:xfrm>
            <a:off x="666000" y="788400"/>
            <a:ext cx="33163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 txBox="1"/>
          <p:nvPr/>
        </p:nvSpPr>
        <p:spPr>
          <a:xfrm>
            <a:off x="2341800" y="936360"/>
            <a:ext cx="3316680" cy="5648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371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yoll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w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b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4419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371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133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895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657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419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5181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4600" y="12942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4600" y="205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600" y="2818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4600" y="3656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4600" y="4342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4600" y="5104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 txBox="1"/>
          <p:nvPr/>
        </p:nvSpPr>
        <p:spPr>
          <a:xfrm>
            <a:off x="541800" y="398880"/>
            <a:ext cx="2116800" cy="451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505320"/>
            <a:ext cx="2286000" cy="487080"/>
          </a:xfrm>
          <a:prstGeom prst="wedgeRoundRectCallout">
            <a:avLst>
              <a:gd name="adj1" fmla="val -40833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43434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1523880"/>
            <a:ext cx="7848360" cy="1067040"/>
          </a:xfrm>
          <a:prstGeom prst="wedgeRoundRectCallout">
            <a:avLst>
              <a:gd name="adj1" fmla="val -54208"/>
              <a:gd name="adj2" fmla="val 13854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52680"/>
            <a:ext cx="6095880" cy="1067040"/>
          </a:xfrm>
          <a:prstGeom prst="wedgeRoundRectCallout">
            <a:avLst>
              <a:gd name="adj1" fmla="val 60495"/>
              <a:gd name="adj2" fmla="val 122768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 flipH="1" rot="16200000">
            <a:off x="3962160" y="1676160"/>
            <a:ext cx="1219320" cy="91440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24368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1752480" y="3505320"/>
            <a:ext cx="5943600" cy="106668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es he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4800600"/>
            <a:ext cx="5791320" cy="1066680"/>
          </a:xfrm>
          <a:prstGeom prst="wedgeRoundRectCallout">
            <a:avLst>
              <a:gd name="adj1" fmla="val 57703"/>
              <a:gd name="adj2" fmla="val 91370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’s h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3808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’m hu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143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Model sentences</a:t>
            </a: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es he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e’s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2590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327672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6483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644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3276720" y="3581280"/>
            <a:ext cx="26733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6095880" y="3581280"/>
            <a:ext cx="274644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496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1752480" y="5029200"/>
            <a:ext cx="5791320" cy="1066680"/>
          </a:xfrm>
          <a:prstGeom prst="wedgeRoundRectCallout">
            <a:avLst>
              <a:gd name="adj1" fmla="val 55620"/>
              <a:gd name="adj2" fmla="val 76041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548640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3619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4" name=""/>
          <p:cNvSpPr/>
          <p:nvPr/>
        </p:nvSpPr>
        <p:spPr>
          <a:xfrm>
            <a:off x="83808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3581280"/>
            <a:ext cx="5943600" cy="106704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nsw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4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3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2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1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293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288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1600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3880" y="464832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6372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56498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371600" y="457200"/>
            <a:ext cx="563868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1143000" y="22860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sk and answ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in the halv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5432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25432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8600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22971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3842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609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49264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0199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019920" y="3619440"/>
            <a:ext cx="2517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276720" y="3600360"/>
            <a:ext cx="24908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609480" y="3629160"/>
            <a:ext cx="2492640" cy="29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609480" y="38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324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220968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5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736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8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340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53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      Nhan      Ba     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371600" y="3805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220968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29718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09680" y="1219320"/>
            <a:ext cx="556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38098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47242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. A 5 (P.106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3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4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75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722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0.25417 0.35507 E">
                                      <p:cBhvr>
                                        <p:cTn id="39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17916 0.35507 E">
                                      <p:cBhvr>
                                        <p:cTn id="403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10541E-006 L 0.17083 0.73232 E">
                                      <p:cBhvr>
                                        <p:cTn id="40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52083 0.73232 E">
                                      <p:cBhvr>
                                        <p:cTn id="41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62120" y="12952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04812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133720"/>
            <a:ext cx="6248520" cy="1904760"/>
          </a:xfrm>
          <a:prstGeom prst="horizontalScroll">
            <a:avLst>
              <a:gd name="adj" fmla="val 12500"/>
            </a:avLst>
          </a:prstGeom>
          <a:solidFill>
            <a:srgbClr val="ffe575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6668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I’m……..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876920" y="1143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34290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8862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2438280" y="44197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8120" y="4419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re you ..................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5410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410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/ No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0"/>
          <a:stretch/>
        </p:blipFill>
        <p:spPr>
          <a:xfrm>
            <a:off x="990720" y="441972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019920" y="609480"/>
            <a:ext cx="270972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019920" y="342900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295280" y="9907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. Homewor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57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) A1 (P. 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32004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A5 (P.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3809880"/>
            <a:ext cx="640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Example: A1 (P. 10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4495680"/>
            <a:ext cx="60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a) He is hung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3:59:59Z</dcterms:created>
  <dc:creator/>
  <dc:description/>
  <dc:language>en-US</dc:language>
  <cp:lastModifiedBy>Quy Khach Hang</cp:lastModifiedBy>
  <dcterms:modified xsi:type="dcterms:W3CDTF">2009-08-23T14:45:40Z</dcterms:modified>
  <cp:revision>23</cp:revision>
  <dc:subject/>
  <dc:title>English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