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2.png" ContentType="image/png"/>
  <Override PartName="/ppt/media/image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416-77A4-4C58-9880-0722DECA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693-490B-47CB-BCE3-3E5E706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284-B80E-4C1F-8EEC-E4D3D6BF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29D-A8C5-4940-8A6C-BEB7BBD3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AA9A-92B5-4425-899E-9154D79F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8ED6-21CC-4DBF-A6E2-E1143088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BA3D-D175-4341-89BD-84ABF9E1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87C5-8DC3-4D74-83B6-68B879CC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0B24-661D-40DF-9200-B963E7A3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5E9B-66A4-428A-AEDE-656348AA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8E0A-1BEA-42F1-A6C5-3747109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316-101A-4DA9-A652-C390B654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9E1B-516A-4362-8C9D-60560D30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200C-554E-451B-AF02-A6016E5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4744-92C9-40AF-83DA-19E07826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C2AC-FC43-47FF-8CBF-C12C61EE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37D6-93A7-4EFF-B042-2F0CFFF6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287E-1E21-4494-AB5A-6E8C544A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0D6C-4FEE-40AC-9807-7254AD3E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6ECB-D67C-4AF3-86EA-25C99186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28B4-E449-4464-82F7-76B4DA9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17CA-3229-4B22-80B6-D2F1A9C8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DCD-4D56-46E8-9914-8683D5A5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43CE-994C-4E01-A6C8-3BEF193B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7F43-8B5D-493C-9867-683DA9A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880E-82A3-4C46-8261-FB2ED70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0285-3F01-4B40-98E2-D1A6A9BA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9CC9-C8AA-468E-93EF-8CC8CDA9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9907-876A-44EB-811B-874A7B53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D774-C8D2-4F20-B904-E9F17473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FF9A-23B6-490B-934F-D55566D2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34DE-1E77-4EEA-970D-98272AFC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8C8F-20CB-4E57-AB8E-DAE510C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041-91A5-4108-A125-98E4746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542B0-C996-4D5F-AA3C-4B0A40F9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FE456-B2F7-44F2-BD47-B53CAD78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7F448-4A51-4672-9C42-177925B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5E57-20C7-46D2-BA30-C058F17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774D-4D7B-460C-BFCD-20F2F55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032D-58F1-4720-AB37-D8DBF3A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AC410-AB0C-4C4C-B2DE-0E4E29A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BF13-A1E8-4E15-9CED-768C1F79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85DC-13E0-4052-A066-E3A236C8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DD6D6-B9B6-472E-8BF9-C346E419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B4C-49D6-48F2-82E4-8FB6055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BAFFF-2EDF-47A6-B388-0784AD6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7824-8312-4B86-AFEC-A0D1CD18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1F41-EB02-45D2-BD6B-1F4B800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83D8-72A9-4993-BE0C-5669FFC7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B63C1-CBBD-401C-B40B-00C1D3C1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1883-3450-4656-9514-68D429A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CBA2-3ACC-444B-9F99-DA22FC81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FCB3-CA60-4528-A5B4-8D7ECC3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1CDB-92AB-4819-83C7-F335F68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474F-B24B-4585-BD6C-F2BCE013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0EC-0C88-45AF-9081-CDDEE0A3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1367E-6AA3-4EF8-AE7D-D3DA8D8C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7FE5-F5C9-4217-97AB-36E06871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02FF-8C4C-4D94-9314-418989B7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BEA7-CC62-4F0D-91CC-1ECBC8F4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D309-9F6F-427C-8134-C2E772D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F3C9-FFA2-4179-A5A7-5498B3D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F7E5A-2066-4261-8ADA-DDBD1A9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24E3-FB7C-422D-8BCE-7EEF3932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92B6B-F731-4FA0-905B-14ECBD3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B462-F842-4CE7-B296-E259777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B6A-31C8-490E-95E3-F017170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F8CD-6DE3-4CDE-8747-49B625A2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6642-7AC1-4FFF-B7FD-9BBE468D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3D8DC-C6C6-4852-94E2-D2F35634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EED-0643-49AC-89BB-393A400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687-9DD2-4E9F-9373-B8AB7B2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521F-1416-4DCD-BCDC-205B8A051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D93B-6C1C-4D99-9AD7-555FB49F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98FA-6692-449E-85AB-F2DC2186A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BB9-45C6-47ED-BECA-217E867C0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E41-F902-4725-BF2A-0C73DBEB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D3FA-43F6-4D58-9CBA-B9D039D3F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6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Monotype Corsiva"/>
              </a:rPr>
              <a:t>Listen and repea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 txBox="1"/>
          <p:nvPr/>
        </p:nvSpPr>
        <p:spPr>
          <a:xfrm>
            <a:off x="4486680" y="559800"/>
            <a:ext cx="35989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 txBox="1"/>
          <p:nvPr/>
        </p:nvSpPr>
        <p:spPr>
          <a:xfrm>
            <a:off x="2372760" y="406800"/>
            <a:ext cx="4092840" cy="6634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752480" y="118584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"/>
          <p:cNvSpPr txBox="1"/>
          <p:nvPr/>
        </p:nvSpPr>
        <p:spPr>
          <a:xfrm>
            <a:off x="3592080" y="488160"/>
            <a:ext cx="4092840" cy="7761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"/>
          <p:cNvSpPr txBox="1"/>
          <p:nvPr/>
        </p:nvSpPr>
        <p:spPr>
          <a:xfrm>
            <a:off x="2415240" y="631800"/>
            <a:ext cx="3246120" cy="565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2768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 txBox="1"/>
          <p:nvPr/>
        </p:nvSpPr>
        <p:spPr>
          <a:xfrm>
            <a:off x="666000" y="788400"/>
            <a:ext cx="3316320" cy="6631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1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"/>
          <p:cNvSpPr txBox="1"/>
          <p:nvPr/>
        </p:nvSpPr>
        <p:spPr>
          <a:xfrm>
            <a:off x="2341800" y="936360"/>
            <a:ext cx="3316680" cy="5648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371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yoll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w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k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65760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b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4419720"/>
            <a:ext cx="175284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5181480"/>
            <a:ext cx="1752840" cy="609840"/>
          </a:xfrm>
          <a:prstGeom prst="rect">
            <a:avLst/>
          </a:prstGeom>
          <a:solidFill>
            <a:srgbClr val="ffe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371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133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2895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65760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419720"/>
            <a:ext cx="175248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51814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4600" y="1294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4600" y="2056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600" y="2818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4600" y="36565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4600" y="4342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4600" y="51044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 txBox="1"/>
          <p:nvPr/>
        </p:nvSpPr>
        <p:spPr>
          <a:xfrm>
            <a:off x="541800" y="398880"/>
            <a:ext cx="2116800" cy="451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8128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hir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880"/>
            <a:ext cx="2286000" cy="48744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re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3505320"/>
            <a:ext cx="2286000" cy="487080"/>
          </a:xfrm>
          <a:prstGeom prst="wedgeRoundRectCallout">
            <a:avLst>
              <a:gd name="adj1" fmla="val 24930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c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505320"/>
            <a:ext cx="2286000" cy="487080"/>
          </a:xfrm>
          <a:prstGeom prst="wedgeRoundRectCallout">
            <a:avLst>
              <a:gd name="adj1" fmla="val -40833"/>
              <a:gd name="adj2" fmla="val 142180"/>
              <a:gd name="adj3" fmla="val 16667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’m 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43434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1523880"/>
            <a:ext cx="7848360" cy="1067040"/>
          </a:xfrm>
          <a:prstGeom prst="wedgeRoundRectCallout">
            <a:avLst>
              <a:gd name="adj1" fmla="val -54208"/>
              <a:gd name="adj2" fmla="val 13854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52680"/>
            <a:ext cx="6095880" cy="1067040"/>
          </a:xfrm>
          <a:prstGeom prst="wedgeRoundRectCallout">
            <a:avLst>
              <a:gd name="adj1" fmla="val 60495"/>
              <a:gd name="adj2" fmla="val 122768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flipH="1" rot="16200000">
            <a:off x="3962160" y="1676160"/>
            <a:ext cx="1219320" cy="91440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219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24368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1752480" y="3505320"/>
            <a:ext cx="5943600" cy="106668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es he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4800600"/>
            <a:ext cx="5791320" cy="1066680"/>
          </a:xfrm>
          <a:prstGeom prst="wedgeRoundRectCallout">
            <a:avLst>
              <a:gd name="adj1" fmla="val 57703"/>
              <a:gd name="adj2" fmla="val 91370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’s h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38088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057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143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Model sentences</a:t>
            </a:r>
            <a:r>
              <a:rPr b="0" i="1" lang="en-US" sz="48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ow does he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 He’s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25909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327672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095880" y="762120"/>
            <a:ext cx="271008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644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3276720" y="3581280"/>
            <a:ext cx="26733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6095880" y="3581280"/>
            <a:ext cx="274644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3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74320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35053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0" y="17524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971440" y="38052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Saturday, 17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 January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8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209680" y="838080"/>
            <a:ext cx="4496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"/>
          <p:cNvSpPr/>
          <p:nvPr/>
        </p:nvSpPr>
        <p:spPr>
          <a:xfrm>
            <a:off x="1752480" y="5029200"/>
            <a:ext cx="5791320" cy="1066680"/>
          </a:xfrm>
          <a:prstGeom prst="wedgeRoundRectCallout">
            <a:avLst>
              <a:gd name="adj1" fmla="val 55620"/>
              <a:gd name="adj2" fmla="val 76041"/>
              <a:gd name="adj3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I’m hung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548640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447920" y="609480"/>
            <a:ext cx="23619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4" name=""/>
          <p:cNvSpPr/>
          <p:nvPr/>
        </p:nvSpPr>
        <p:spPr>
          <a:xfrm>
            <a:off x="83808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3581280"/>
            <a:ext cx="5943600" cy="1067040"/>
          </a:xfrm>
          <a:prstGeom prst="wedgeRoundRectCallout">
            <a:avLst>
              <a:gd name="adj1" fmla="val -70939"/>
              <a:gd name="adj2" fmla="val 67111"/>
              <a:gd name="adj3" fmla="val 16667"/>
            </a:avLst>
          </a:prstGeom>
          <a:solidFill>
            <a:srgbClr val="ff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ow do you feel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nsw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4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3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2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(1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293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4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600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13880" y="464832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6372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64984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371600" y="457200"/>
            <a:ext cx="563868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1143000" y="22860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Ask and answe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in the halve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648320" cy="46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"/>
          <p:cNvSpPr/>
          <p:nvPr/>
        </p:nvSpPr>
        <p:spPr>
          <a:xfrm>
            <a:off x="2209680" y="541008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7692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4" name=""/>
          <p:cNvSpPr/>
          <p:nvPr/>
        </p:nvSpPr>
        <p:spPr>
          <a:xfrm>
            <a:off x="21337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492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"/>
          <p:cNvSpPr/>
          <p:nvPr/>
        </p:nvSpPr>
        <p:spPr>
          <a:xfrm>
            <a:off x="2362320" y="556272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-360" y="-1600200"/>
            <a:ext cx="9144360" cy="8763120"/>
            <a:chOff x="-360" y="-1600200"/>
            <a:chExt cx="9144360" cy="876312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 rot="5400000">
              <a:off x="-4115880" y="2972520"/>
              <a:ext cx="830592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876560" y="2590560"/>
              <a:ext cx="84582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"/>
            <a:stretch/>
          </p:blipFill>
          <p:spPr>
            <a:xfrm>
              <a:off x="0" y="6775560"/>
              <a:ext cx="9144000" cy="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Monotype Corsiva"/>
              </a:rPr>
              <a:t>Change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209680" y="609480"/>
            <a:ext cx="44546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6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5734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S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86000" y="609480"/>
            <a:ext cx="4624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2209680" y="55627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</a:rPr>
              <a:t>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2543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25432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8600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22971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3209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6248520" y="3352680"/>
            <a:ext cx="23842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609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2666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24480" y="5867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49264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6019920" y="380880"/>
            <a:ext cx="249228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019920" y="3619440"/>
            <a:ext cx="251748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3276720" y="3600360"/>
            <a:ext cx="24908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609480" y="3629160"/>
            <a:ext cx="2492640" cy="29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609480" y="38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80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3657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47920" y="472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676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920"/>
            <a:ext cx="6095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76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®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053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47920" y="2209680"/>
            <a:ext cx="2209680" cy="657720"/>
            <a:chOff x="1447920" y="2209680"/>
            <a:chExt cx="2209680" cy="657720"/>
          </a:xfrm>
        </p:grpSpPr>
        <p:sp>
          <p:nvSpPr>
            <p:cNvPr id="324" name=""/>
            <p:cNvSpPr/>
            <p:nvPr/>
          </p:nvSpPr>
          <p:spPr>
            <a:xfrm>
              <a:off x="1447920" y="22860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irs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220968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57200" y="38088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114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l¹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22860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kh¸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2895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Arial"/>
              </a:rPr>
              <a:t>: mÖ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62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5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8736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8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7894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83408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"/>
          <p:cNvSpPr/>
          <p:nvPr/>
        </p:nvSpPr>
        <p:spPr>
          <a:xfrm>
            <a:off x="1981080" y="609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0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1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53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      Nhan      Ba     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371600" y="3805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Unit 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2209680"/>
            <a:ext cx="8229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.VnCentury Schoolbook"/>
              </a:rPr>
              <a:t>Lesson 1: A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.VnCentury Schoolbook"/>
              </a:rPr>
              <a:t>1, 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297180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. Vocabular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09680" y="1219320"/>
            <a:ext cx="556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Tifani Heavy"/>
              </a:rPr>
              <a:t>Staying healthy</a:t>
            </a:r>
            <a:endParaRPr b="0" lang="en-US" sz="18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Tifani Heavy"/>
              <a:ea typeface=".VnTifani Heavy"/>
            </a:endParaRPr>
          </a:p>
        </p:txBody>
      </p:sp>
      <p:sp>
        <p:nvSpPr>
          <p:cNvPr id="565" name=""/>
          <p:cNvSpPr/>
          <p:nvPr/>
        </p:nvSpPr>
        <p:spPr>
          <a:xfrm>
            <a:off x="609480" y="38098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. A 1 (P.104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4724280"/>
            <a:ext cx="7086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. A 5 (P.106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371600" y="1447920"/>
            <a:ext cx="6564240" cy="4838760"/>
            <a:chOff x="1371600" y="1447920"/>
            <a:chExt cx="6564240" cy="4838760"/>
          </a:xfrm>
        </p:grpSpPr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1371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3657600" y="1447920"/>
              <a:ext cx="189684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6019560" y="1447920"/>
              <a:ext cx="1897200" cy="227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2" name="" descr=""/>
            <p:cNvPicPr/>
            <p:nvPr/>
          </p:nvPicPr>
          <p:blipFill>
            <a:blip r:embed="rId5"/>
            <a:stretch/>
          </p:blipFill>
          <p:spPr>
            <a:xfrm>
              <a:off x="6019560" y="4038840"/>
              <a:ext cx="1916280" cy="224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3" name="" descr=""/>
            <p:cNvPicPr/>
            <p:nvPr/>
          </p:nvPicPr>
          <p:blipFill>
            <a:blip r:embed="rId6"/>
            <a:stretch/>
          </p:blipFill>
          <p:spPr>
            <a:xfrm>
              <a:off x="3657600" y="3981600"/>
              <a:ext cx="1895400" cy="2262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74" name="" descr=""/>
            <p:cNvPicPr/>
            <p:nvPr/>
          </p:nvPicPr>
          <p:blipFill>
            <a:blip r:embed="rId7"/>
            <a:stretch/>
          </p:blipFill>
          <p:spPr>
            <a:xfrm>
              <a:off x="1371600" y="4038840"/>
              <a:ext cx="1896840" cy="22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75" name=""/>
          <p:cNvSpPr/>
          <p:nvPr/>
        </p:nvSpPr>
        <p:spPr>
          <a:xfrm>
            <a:off x="1371600" y="685800"/>
            <a:ext cx="6553080" cy="609480"/>
          </a:xfrm>
          <a:prstGeom prst="rect">
            <a:avLst/>
          </a:prstGeom>
          <a:solidFill>
            <a:srgbClr val="ffe575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038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72200" y="685800"/>
            <a:ext cx="1752480" cy="609480"/>
          </a:xfrm>
          <a:prstGeom prst="rect">
            <a:avLst/>
          </a:prstGeom>
          <a:solidFill>
            <a:srgbClr val="ffe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0.25417 0.35507 E">
                                      <p:cBhvr>
                                        <p:cTn id="39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17916 0.35507 E">
                                      <p:cBhvr>
                                        <p:cTn id="403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0541E-006 L 0.17083 0.73232 E">
                                      <p:cBhvr>
                                        <p:cTn id="40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0541E-006 L -0.52083 0.73232 E">
                                      <p:cBhvr>
                                        <p:cTn id="41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62120" y="12952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048120"/>
            <a:ext cx="647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2133720"/>
            <a:ext cx="6248520" cy="1904760"/>
          </a:xfrm>
          <a:prstGeom prst="horizontalScroll">
            <a:avLst>
              <a:gd name="adj" fmla="val 12500"/>
            </a:avLst>
          </a:prstGeom>
          <a:solidFill>
            <a:srgbClr val="ffe575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6668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I’m……..</a:t>
            </a: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876920" y="1143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34290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886200" y="1143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2438280" y="44197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8120" y="441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Are you ..................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Ye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5410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Monotype Corsiva"/>
              </a:rPr>
              <a:t>/ No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9"/>
          <a:stretch/>
        </p:blipFill>
        <p:spPr>
          <a:xfrm>
            <a:off x="198108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0"/>
          <a:stretch/>
        </p:blipFill>
        <p:spPr>
          <a:xfrm>
            <a:off x="990720" y="44197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67336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67336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019920" y="609480"/>
            <a:ext cx="2709720" cy="26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6449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73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6019920" y="3429000"/>
            <a:ext cx="27460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295280" y="990720"/>
            <a:ext cx="7086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. Homewor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457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) A1 (P. 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32004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A5 (P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3809880"/>
            <a:ext cx="640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Example: A1 (P. 10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4495680"/>
            <a:ext cx="60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0066"/>
                </a:solidFill>
                <a:latin typeface="Monotype Corsiva"/>
              </a:rPr>
              <a:t>a) He is hung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639040" cy="559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63868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91320" cy="567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3:59:59Z</dcterms:created>
  <dc:creator/>
  <dc:description/>
  <dc:language>en-US</dc:language>
  <cp:lastModifiedBy>Quy Khach Hang</cp:lastModifiedBy>
  <dcterms:modified xsi:type="dcterms:W3CDTF">2009-08-23T14:45:40Z</dcterms:modified>
  <cp:revision>23</cp:revision>
  <dc:subject/>
  <dc:title>English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